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</p:sldIdLst>
  <p:sldSz cx="9144000" cy="6858000"/>
  <p:notesSz cx="7300913" cy="9586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E70FB-012C-4D62-8CD7-73847F5FA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00888-B649-4D13-B03F-77E93DF32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097DA-1FA2-4027-8E8F-868C04072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13E65-C9EE-4289-AC04-CA6A9CD46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B1C02-4867-419B-9D09-8208738D3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CC069-5268-46A8-BFBC-CBC1C96B6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E659C-5F31-4516-B939-66CD41AB4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6E0C9-2FC5-4396-AACA-7AEE52B97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B62C6-924A-4B9E-A37E-2C024E374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5C4CF-93B0-4B25-BAD9-7A57E12C5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F3536-F10A-4F88-914C-E3EBD737C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2835A-C282-4763-BDC4-BCE7869A5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E468D-A70B-4472-8610-62D3D6FDA674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9EAB5-89E5-4E93-8252-10AC357843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warmfest ‘99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utori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ssion III: The libra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nedikt Stefans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benedikt@ucla.edu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ankedList: Example of Ma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581280" y="1676520"/>
            <a:ext cx="2362320" cy="24382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ked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209680" y="3048120"/>
            <a:ext cx="4953240" cy="76176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574520" y="4876920"/>
            <a:ext cx="56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574520" y="4038480"/>
            <a:ext cx="56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286000" y="4000680"/>
            <a:ext cx="228600" cy="22860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429000" y="4000680"/>
            <a:ext cx="228600" cy="22860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019920" y="4000680"/>
            <a:ext cx="228600" cy="22860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4952880"/>
            <a:ext cx="914400" cy="9144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048120" y="4952880"/>
            <a:ext cx="914400" cy="9144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638680" y="4952880"/>
            <a:ext cx="914400" cy="9144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600200" y="3962520"/>
            <a:ext cx="9144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048120" y="3962520"/>
            <a:ext cx="9144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638680" y="3962520"/>
            <a:ext cx="9144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20E4A-426D-41E9-8CC1-3B113CE7DBEB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28963F-C8DF-4748-89AB-89C5E5AA2E0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095880" y="3505320"/>
            <a:ext cx="1123920" cy="7254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de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jor Activity clas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on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ates a set of actions which should be invoked at the “same time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e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set of actions or action grou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vates schedu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rols one level of model wor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410080" y="2666880"/>
            <a:ext cx="1123920" cy="7257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l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724280" y="5334120"/>
            <a:ext cx="1123920" cy="7761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hedu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095880" y="4419720"/>
            <a:ext cx="1123920" cy="7491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724280" y="3505320"/>
            <a:ext cx="1123920" cy="7254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y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l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724280" y="4419720"/>
            <a:ext cx="1123920" cy="7254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467480" y="4419720"/>
            <a:ext cx="1123920" cy="7491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467480" y="5361120"/>
            <a:ext cx="1123920" cy="7491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400800" y="1828800"/>
            <a:ext cx="1123920" cy="779400"/>
          </a:xfrm>
          <a:prstGeom prst="rect">
            <a:avLst/>
          </a:prstGeom>
          <a:solidFill>
            <a:srgbClr val="33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fob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1" name=""/>
          <p:cNvCxnSpPr>
            <a:stCxn id="140" idx="1"/>
            <a:endCxn id="133" idx="0"/>
          </p:cNvCxnSpPr>
          <p:nvPr/>
        </p:nvCxnSpPr>
        <p:spPr>
          <a:xfrm flipV="1" rot="10800000">
            <a:off x="5971320" y="2218320"/>
            <a:ext cx="429480" cy="448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2" name=""/>
          <p:cNvCxnSpPr>
            <a:stCxn id="140" idx="3"/>
            <a:endCxn id="138" idx="0"/>
          </p:cNvCxnSpPr>
          <p:nvPr/>
        </p:nvCxnSpPr>
        <p:spPr>
          <a:xfrm>
            <a:off x="7524720" y="2219400"/>
            <a:ext cx="505440" cy="2201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3" idx="1"/>
            <a:endCxn id="136" idx="0"/>
          </p:cNvCxnSpPr>
          <p:nvPr/>
        </p:nvCxnSpPr>
        <p:spPr>
          <a:xfrm flipV="1" rot="10800000">
            <a:off x="5285520" y="3029400"/>
            <a:ext cx="124560" cy="4755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stCxn id="133" idx="3"/>
            <a:endCxn id="130" idx="0"/>
          </p:cNvCxnSpPr>
          <p:nvPr/>
        </p:nvCxnSpPr>
        <p:spPr>
          <a:xfrm>
            <a:off x="6534000" y="3030120"/>
            <a:ext cx="124560" cy="4755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36" idx="2"/>
            <a:endCxn id="137" idx="0"/>
          </p:cNvCxnSpPr>
          <p:nvPr/>
        </p:nvCxnSpPr>
        <p:spPr>
          <a:xfrm>
            <a:off x="5285880" y="4230360"/>
            <a:ext cx="1080" cy="189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30" idx="2"/>
            <a:endCxn id="135" idx="0"/>
          </p:cNvCxnSpPr>
          <p:nvPr/>
        </p:nvCxnSpPr>
        <p:spPr>
          <a:xfrm>
            <a:off x="6657480" y="4230360"/>
            <a:ext cx="1080" cy="189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7" idx="2"/>
            <a:endCxn id="134" idx="0"/>
          </p:cNvCxnSpPr>
          <p:nvPr/>
        </p:nvCxnSpPr>
        <p:spPr>
          <a:xfrm>
            <a:off x="5285880" y="5144760"/>
            <a:ext cx="1080" cy="189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38" idx="2"/>
            <a:endCxn id="139" idx="0"/>
          </p:cNvCxnSpPr>
          <p:nvPr/>
        </p:nvCxnSpPr>
        <p:spPr>
          <a:xfrm>
            <a:off x="8029080" y="5168880"/>
            <a:ext cx="1080" cy="19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64662-66B7-4D67-92DF-F6FC56835111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1487EA-2626-4C22-9148-C3B28844085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3932280" y="2971800"/>
            <a:ext cx="50576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hedule=[Schedu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reateBegin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zon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schedule setRepeatInterval: n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hedule=[schedule createEnd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schedule    at: 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reateActionTo: bu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essage: M(eat)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hedu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5800" y="1981080"/>
            <a:ext cx="33526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edules define event in terms of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eat interv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 within schedule of first invoc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 name or action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hod to c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886280" y="2239920"/>
            <a:ext cx="337032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327640" y="213372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209000" y="212724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149440" y="156528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077880" y="1477800"/>
            <a:ext cx="48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076160" y="1606680"/>
            <a:ext cx="5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+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848120" y="2219400"/>
            <a:ext cx="127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bug eat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797520" y="2211480"/>
            <a:ext cx="127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bug eat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35480" y="393876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934320" y="4191120"/>
            <a:ext cx="369720" cy="442800"/>
          </a:xfrm>
          <a:custGeom>
            <a:avLst/>
            <a:gdLst>
              <a:gd name="textAreaLeft" fmla="*/ 84240 w 369720"/>
              <a:gd name="textAreaRight" fmla="*/ 285480 w 369720"/>
              <a:gd name="textAreaTop" fmla="*/ 101160 h 442800"/>
              <a:gd name="textAreaBottom" fmla="*/ 341640 h 442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4419720"/>
            <a:ext cx="369720" cy="442800"/>
          </a:xfrm>
          <a:custGeom>
            <a:avLst/>
            <a:gdLst>
              <a:gd name="textAreaLeft" fmla="*/ 84240 w 369720"/>
              <a:gd name="textAreaRight" fmla="*/ 285480 w 369720"/>
              <a:gd name="textAreaTop" fmla="*/ 101160 h 442800"/>
              <a:gd name="textAreaBottom" fmla="*/ 341640 h 442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696080" y="4800600"/>
            <a:ext cx="370080" cy="442800"/>
          </a:xfrm>
          <a:custGeom>
            <a:avLst/>
            <a:gdLst>
              <a:gd name="textAreaLeft" fmla="*/ 84240 w 370080"/>
              <a:gd name="textAreaRight" fmla="*/ 285840 w 370080"/>
              <a:gd name="textAreaTop" fmla="*/ 101160 h 442800"/>
              <a:gd name="textAreaBottom" fmla="*/ 341640 h 442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871560" y="3338640"/>
            <a:ext cx="298440" cy="425160"/>
          </a:xfrm>
          <a:custGeom>
            <a:avLst/>
            <a:gdLst>
              <a:gd name="textAreaLeft" fmla="*/ 68040 w 298440"/>
              <a:gd name="textAreaRight" fmla="*/ 230400 w 298440"/>
              <a:gd name="textAreaTop" fmla="*/ 96840 h 425160"/>
              <a:gd name="textAreaBottom" fmla="*/ 328320 h 425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71560" y="2890800"/>
            <a:ext cx="298440" cy="425520"/>
          </a:xfrm>
          <a:custGeom>
            <a:avLst/>
            <a:gdLst>
              <a:gd name="textAreaLeft" fmla="*/ 68040 w 298440"/>
              <a:gd name="textAreaRight" fmla="*/ 230400 w 298440"/>
              <a:gd name="textAreaTop" fmla="*/ 97200 h 425520"/>
              <a:gd name="textAreaBottom" fmla="*/ 328320 h 42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38080" y="5334120"/>
            <a:ext cx="298440" cy="425160"/>
          </a:xfrm>
          <a:custGeom>
            <a:avLst/>
            <a:gdLst>
              <a:gd name="textAreaLeft" fmla="*/ 68040 w 298440"/>
              <a:gd name="textAreaRight" fmla="*/ 230400 w 298440"/>
              <a:gd name="textAreaTop" fmla="*/ 96840 h 425160"/>
              <a:gd name="textAreaBottom" fmla="*/ 328320 h 425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4572000"/>
            <a:ext cx="298440" cy="425520"/>
          </a:xfrm>
          <a:custGeom>
            <a:avLst/>
            <a:gdLst>
              <a:gd name="textAreaLeft" fmla="*/ 68040 w 298440"/>
              <a:gd name="textAreaRight" fmla="*/ 230400 w 298440"/>
              <a:gd name="textAreaTop" fmla="*/ 97200 h 425520"/>
              <a:gd name="textAreaBottom" fmla="*/ 328320 h 42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381880" y="3200400"/>
            <a:ext cx="370080" cy="442800"/>
          </a:xfrm>
          <a:custGeom>
            <a:avLst/>
            <a:gdLst>
              <a:gd name="textAreaLeft" fmla="*/ 84240 w 370080"/>
              <a:gd name="textAreaRight" fmla="*/ 285840 w 370080"/>
              <a:gd name="textAreaTop" fmla="*/ 101160 h 442800"/>
              <a:gd name="textAreaBottom" fmla="*/ 341640 h 442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06BC3-9280-476F-8495-6E2D2486FD17}" type="slidenum">
              <a:t>1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9CF635-0C6E-4592-8899-1CA1589D061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aning of time in Schedu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mes in schedule can b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ative to activ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setRelativeTime: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ative to base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setRelativeTime: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all schedules are activated at beginning doesn’t matter mu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724280" y="2239920"/>
            <a:ext cx="4003920" cy="0"/>
          </a:xfrm>
          <a:prstGeom prst="line">
            <a:avLst/>
          </a:prstGeom>
          <a:ln w="50760">
            <a:solidFill>
              <a:srgbClr val="b2b2b2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937040" y="212580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562720" y="212580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172200" y="212724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797520" y="212724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467480" y="212724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8093160" y="212724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638680" y="2590920"/>
            <a:ext cx="1981440" cy="0"/>
          </a:xfrm>
          <a:prstGeom prst="line">
            <a:avLst/>
          </a:prstGeom>
          <a:ln w="50760">
            <a:solidFill>
              <a:srgbClr val="3333cc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546880" y="2476440"/>
            <a:ext cx="228600" cy="2286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172200" y="2476440"/>
            <a:ext cx="228600" cy="2286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781680" y="2478240"/>
            <a:ext cx="228600" cy="2286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407360" y="2478240"/>
            <a:ext cx="228600" cy="2286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248520" y="3733920"/>
            <a:ext cx="2361960" cy="0"/>
          </a:xfrm>
          <a:prstGeom prst="line">
            <a:avLst/>
          </a:prstGeom>
          <a:ln w="50760">
            <a:solidFill>
              <a:srgbClr val="ff33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172200" y="3619440"/>
            <a:ext cx="228600" cy="2286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407360" y="3619440"/>
            <a:ext cx="228600" cy="2286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00600" y="4952880"/>
            <a:ext cx="3733920" cy="0"/>
          </a:xfrm>
          <a:prstGeom prst="line">
            <a:avLst/>
          </a:prstGeom>
          <a:ln w="50760">
            <a:solidFill>
              <a:srgbClr val="00cc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486400" y="483876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172200" y="483876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781680" y="483876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391520" y="483876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8001000" y="483876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642920" y="2743200"/>
            <a:ext cx="3881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edule activated at t=1 w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 events, after which it sto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642920" y="3886200"/>
            <a:ext cx="3881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edule activated at t=2 w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event and repeat interval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718880" y="5105520"/>
            <a:ext cx="3881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edule activated at t=0 w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t at t=1 and repeat intvl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648320" y="2438280"/>
            <a:ext cx="4114800" cy="1067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648320" y="3581280"/>
            <a:ext cx="4114800" cy="1067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648320" y="4724280"/>
            <a:ext cx="4114800" cy="1219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07FDE-EA32-45CE-A8B7-DAEB7AAFF26F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62DFF4-8ECD-43BD-82EF-97DB8CA5AD8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370800" y="5029200"/>
            <a:ext cx="7373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ctivate at t=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schedule setRepeatInterval: 1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schedule at: 1 createActionTo: obj message: M(message)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57200" y="2286000"/>
            <a:ext cx="8158320" cy="144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ctivate at t=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schedule at: 0 createActionTo: obj1 message:M(message1)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schedule at: 4 createActionTo: obj4 message:M(message4)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70800" y="3733920"/>
            <a:ext cx="7373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ctivate at t=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schedule setRepeatInterval: 2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schedule at: 0 createActionTo: obj message: M(message)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2038320"/>
            <a:ext cx="5486400" cy="0"/>
          </a:xfrm>
          <a:prstGeom prst="line">
            <a:avLst/>
          </a:prstGeom>
          <a:ln w="50760">
            <a:solidFill>
              <a:srgbClr val="b2b2b2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336840" y="192420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962520" y="192420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572000" y="192420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197320" y="192420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867280" y="192420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492960" y="192420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257800" y="2514600"/>
            <a:ext cx="1981080" cy="0"/>
          </a:xfrm>
          <a:prstGeom prst="line">
            <a:avLst/>
          </a:prstGeom>
          <a:ln w="50760">
            <a:solidFill>
              <a:srgbClr val="3333cc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165640" y="2400480"/>
            <a:ext cx="228600" cy="2286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791320" y="2400480"/>
            <a:ext cx="228600" cy="2286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400800" y="2401920"/>
            <a:ext cx="228600" cy="2286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026120" y="2401920"/>
            <a:ext cx="228600" cy="2286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648320" y="4002120"/>
            <a:ext cx="4114800" cy="0"/>
          </a:xfrm>
          <a:prstGeom prst="line">
            <a:avLst/>
          </a:prstGeom>
          <a:ln w="50760">
            <a:solidFill>
              <a:srgbClr val="ff33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72000" y="3887640"/>
            <a:ext cx="228600" cy="2286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807160" y="3887640"/>
            <a:ext cx="228600" cy="2286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962520" y="5257800"/>
            <a:ext cx="2971800" cy="0"/>
          </a:xfrm>
          <a:prstGeom prst="line">
            <a:avLst/>
          </a:prstGeom>
          <a:ln w="50760">
            <a:solidFill>
              <a:srgbClr val="00cc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6200" y="514368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72000" y="514368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181480" y="514368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791320" y="514368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400800" y="514368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80880" y="2286000"/>
            <a:ext cx="8382240" cy="1447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mplementing these 3 schedu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80880" y="3809880"/>
            <a:ext cx="838224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80880" y="5029200"/>
            <a:ext cx="838224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070760" y="192420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7696080" y="192420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8229600" y="192420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102440" y="3887640"/>
            <a:ext cx="228600" cy="2286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8305920" y="3886200"/>
            <a:ext cx="228600" cy="2286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8078E-0CD1-4EFA-AA6B-EE6BA7045D42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75286F-00D6-42BD-B72F-6DB988DA0BE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other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57200" y="2514600"/>
            <a:ext cx="84582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peatSchedule=[Schedule createBegin: zone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repeatSchedule setRepeatInterval: 3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peatSchedule=[repeatSchedule createEnd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repeatSchedule at: 0 createActionTo: firm message:M(do)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ainSchedule=[Schedule createBegin: zone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mainSchedule at:20 createActionTo: repeatSchedul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essage: M(activateIn:):aSwarm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mainSchedule activateIn: aSwarm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47640" y="5659560"/>
            <a:ext cx="7620120" cy="0"/>
          </a:xfrm>
          <a:prstGeom prst="line">
            <a:avLst/>
          </a:prstGeom>
          <a:ln w="50760">
            <a:solidFill>
              <a:srgbClr val="ff33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84080" y="555300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828800" y="556272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294920" y="5715000"/>
            <a:ext cx="129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firm do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765520" y="555300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809880" y="556272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46600" y="555300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791320" y="556272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727680" y="555300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772400" y="556272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190760" y="5715000"/>
            <a:ext cx="129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firm do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394040" y="5715000"/>
            <a:ext cx="129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firm do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49080" y="51260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16120" y="51260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630520" y="51260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697200" y="51260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611600" y="51260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8280" y="51260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592680" y="51260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7659720" y="51260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816480" y="1641600"/>
            <a:ext cx="7477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rpose: A schedule which executes the “do” method on 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 called “firm” every 3 periods, starting at t=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5FEAA-D567-438B-ACFE-9C959AD08D78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7114B4-D506-4A6C-9BCA-667C54D5718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tionGrou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Groups group together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ction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or </a:t>
            </a: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agen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lang="en-US" sz="2800" spc="-1" strike="noStrike">
                <a:solidFill>
                  <a:srgbClr val="008000"/>
                </a:solidFill>
                <a:latin typeface="Times New Roman"/>
              </a:rPr>
              <a:t>collection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hich should happen at same time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te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04920" y="2743200"/>
            <a:ext cx="85122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ctionGroup=[ActionGroup createBegin: zone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actionGroup createEnd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actionGroup createActionTo: </a:t>
            </a:r>
            <a:r>
              <a:rPr b="0" lang="en-US" sz="1800" spc="-1" strike="noStrike">
                <a:solidFill>
                  <a:srgbClr val="00cc99"/>
                </a:solidFill>
                <a:latin typeface="Courier New"/>
              </a:rPr>
              <a:t>agent1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message: M(</a:t>
            </a:r>
            <a:r>
              <a:rPr b="0" lang="en-US" sz="1800" spc="-1" strike="noStrike">
                <a:solidFill>
                  <a:srgbClr val="ff3300"/>
                </a:solidFill>
                <a:latin typeface="Courier New"/>
              </a:rPr>
              <a:t>youDo1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actionGroup createActionTo: </a:t>
            </a:r>
            <a:r>
              <a:rPr b="0" lang="en-US" sz="1800" spc="-1" strike="noStrike">
                <a:solidFill>
                  <a:srgbClr val="00cc99"/>
                </a:solidFill>
                <a:latin typeface="Courier New"/>
              </a:rPr>
              <a:t>agent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message: M(</a:t>
            </a:r>
            <a:r>
              <a:rPr b="0" lang="en-US" sz="1800" spc="-1" strike="noStrike">
                <a:solidFill>
                  <a:srgbClr val="ff3300"/>
                </a:solidFill>
                <a:latin typeface="Courier New"/>
              </a:rPr>
              <a:t>youDo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actionGroup createActionForEach: </a:t>
            </a:r>
            <a:r>
              <a:rPr b="0" lang="en-US" sz="1800" spc="-1" strike="noStrike">
                <a:solidFill>
                  <a:srgbClr val="008000"/>
                </a:solidFill>
                <a:latin typeface="Courier New"/>
              </a:rPr>
              <a:t>group1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message: M(</a:t>
            </a:r>
            <a:r>
              <a:rPr b="0" lang="en-US" sz="1800" spc="-1" strike="noStrike">
                <a:solidFill>
                  <a:srgbClr val="ff3300"/>
                </a:solidFill>
                <a:latin typeface="Courier New"/>
              </a:rPr>
              <a:t>allDo1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actionGroup createActionForEach: </a:t>
            </a:r>
            <a:r>
              <a:rPr b="0" lang="en-US" sz="1800" spc="-1" strike="noStrike">
                <a:solidFill>
                  <a:srgbClr val="008000"/>
                </a:solidFill>
                <a:latin typeface="Courier New"/>
              </a:rPr>
              <a:t>group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message: M(</a:t>
            </a:r>
            <a:r>
              <a:rPr b="0" lang="en-US" sz="1800" spc="-1" strike="noStrike">
                <a:solidFill>
                  <a:srgbClr val="ff3300"/>
                </a:solidFill>
                <a:latin typeface="Courier New"/>
              </a:rPr>
              <a:t>allDo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schedule at: </a:t>
            </a:r>
            <a:r>
              <a:rPr b="0" lang="en-US" sz="1800" spc="-1" strike="noStrike">
                <a:solidFill>
                  <a:srgbClr val="3333cc"/>
                </a:solidFill>
                <a:latin typeface="Courier New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createAction: actionGroup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209680" y="548640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952880" y="4952880"/>
            <a:ext cx="9907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267080" y="3276720"/>
            <a:ext cx="99072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267080" y="3809880"/>
            <a:ext cx="99072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477120" y="3276720"/>
            <a:ext cx="12952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477120" y="3809880"/>
            <a:ext cx="12952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162920" y="4952880"/>
            <a:ext cx="12952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7162920" y="4419720"/>
            <a:ext cx="129528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952880" y="4419720"/>
            <a:ext cx="9907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F86FD-0AC6-4649-B16B-02CC4AA2C209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B036BB-F5AF-483E-BB7D-E61359CFCDC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ynamic Schedul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274560" y="4191120"/>
            <a:ext cx="3693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[growthSchedule at: time+interv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ateActionTo: foodSp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: M(putValue:atX:Y:):1:x:y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666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can use dynamic scheduling to  schedule regrowth of food at future timestep after food is eaten by Simplebu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7772400" y="3048120"/>
            <a:ext cx="888840" cy="85392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7848720" y="1981080"/>
            <a:ext cx="723960" cy="72396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7238880" y="4267080"/>
            <a:ext cx="1600200" cy="1295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705720" y="5257800"/>
            <a:ext cx="812520" cy="8143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858000" y="5334120"/>
            <a:ext cx="357120" cy="239760"/>
          </a:xfrm>
          <a:prstGeom prst="line">
            <a:avLst/>
          </a:prstGeom>
          <a:noFill/>
          <a:ln w="604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H="1">
            <a:off x="7162920" y="5638680"/>
            <a:ext cx="395280" cy="1800"/>
          </a:xfrm>
          <a:prstGeom prst="line">
            <a:avLst/>
          </a:prstGeom>
          <a:noFill/>
          <a:ln w="604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429000" y="2209680"/>
            <a:ext cx="320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[foodSpace eatX: xPos Y: yPos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1240" y="3124080"/>
            <a:ext cx="367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[self putValue: 0 atX: x Y: y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[model scheduleGrowthAtX: x Y: y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70" idx="4"/>
            <a:endCxn id="269" idx="0"/>
          </p:cNvCxnSpPr>
          <p:nvPr/>
        </p:nvCxnSpPr>
        <p:spPr>
          <a:xfrm>
            <a:off x="8210520" y="2704680"/>
            <a:ext cx="7200" cy="343800"/>
          </a:xfrm>
          <a:prstGeom prst="straightConnector1">
            <a:avLst/>
          </a:prstGeom>
          <a:ln w="57240">
            <a:solidFill>
              <a:srgbClr val="808080"/>
            </a:solidFill>
            <a:miter/>
            <a:tailEnd len="med" type="triangle" w="med"/>
          </a:ln>
        </p:spPr>
      </p:cxnSp>
      <p:cxnSp>
        <p:nvCxnSpPr>
          <p:cNvPr id="278" name=""/>
          <p:cNvCxnSpPr>
            <a:stCxn id="269" idx="2"/>
            <a:endCxn id="271" idx="0"/>
          </p:cNvCxnSpPr>
          <p:nvPr/>
        </p:nvCxnSpPr>
        <p:spPr>
          <a:xfrm flipH="1">
            <a:off x="8039160" y="3902040"/>
            <a:ext cx="178200" cy="365760"/>
          </a:xfrm>
          <a:prstGeom prst="straightConnector1">
            <a:avLst/>
          </a:prstGeom>
          <a:ln w="57240">
            <a:solidFill>
              <a:srgbClr val="808080"/>
            </a:solidFill>
            <a:miter/>
            <a:tailEnd len="med" type="triangle" w="med"/>
          </a:ln>
        </p:spPr>
      </p:cxnSp>
      <p:cxnSp>
        <p:nvCxnSpPr>
          <p:cNvPr id="279" name=""/>
          <p:cNvCxnSpPr>
            <a:stCxn id="272" idx="0"/>
            <a:endCxn id="269" idx="1"/>
          </p:cNvCxnSpPr>
          <p:nvPr/>
        </p:nvCxnSpPr>
        <p:spPr>
          <a:xfrm flipH="1" flipV="1" rot="5400000">
            <a:off x="6550560" y="4035960"/>
            <a:ext cx="1783440" cy="660600"/>
          </a:xfrm>
          <a:prstGeom prst="bentConnector2">
            <a:avLst/>
          </a:prstGeom>
          <a:ln w="57240">
            <a:solidFill>
              <a:srgbClr val="808080"/>
            </a:solidFill>
            <a:miter/>
            <a:tailEnd len="med" type="triangle" w="med"/>
          </a:ln>
        </p:spPr>
      </p:cxnSp>
      <p:cxnSp>
        <p:nvCxnSpPr>
          <p:cNvPr id="280" name=""/>
          <p:cNvCxnSpPr>
            <a:stCxn id="271" idx="4"/>
            <a:endCxn id="272" idx="5"/>
          </p:cNvCxnSpPr>
          <p:nvPr/>
        </p:nvCxnSpPr>
        <p:spPr>
          <a:xfrm rot="5400000">
            <a:off x="7523280" y="5437800"/>
            <a:ext cx="390960" cy="640440"/>
          </a:xfrm>
          <a:prstGeom prst="bentConnector3">
            <a:avLst>
              <a:gd name="adj1" fmla="val 159723"/>
            </a:avLst>
          </a:prstGeom>
          <a:ln w="57240">
            <a:solidFill>
              <a:srgbClr val="808080"/>
            </a:solidFill>
            <a:miter/>
            <a:tailEnd len="med" type="triangle" w="med"/>
          </a:ln>
        </p:spPr>
      </p:cxnSp>
      <p:sp>
        <p:nvSpPr>
          <p:cNvPr id="281" name=""/>
          <p:cNvSpPr/>
          <p:nvPr/>
        </p:nvSpPr>
        <p:spPr>
          <a:xfrm>
            <a:off x="3352680" y="4267080"/>
            <a:ext cx="3657600" cy="99072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429000" y="3048120"/>
            <a:ext cx="3581280" cy="761760"/>
          </a:xfrm>
          <a:prstGeom prst="rect">
            <a:avLst/>
          </a:prstGeom>
          <a:noFill/>
          <a:ln w="93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429000" y="2209680"/>
            <a:ext cx="3581280" cy="381240"/>
          </a:xfrm>
          <a:prstGeom prst="rect">
            <a:avLst/>
          </a:prstGeom>
          <a:noFill/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C6344-7904-48E9-AE80-6BB6CC5AB42A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1163E5-70A3-4275-9E2F-ECC52F81DFB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hedule activ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Schedule has to be activated in a Swarm, otherwise it will not do anyth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b-swarms are activated in top-level Swarm and then schedules in each Swa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638680" y="2209680"/>
            <a:ext cx="2975040" cy="1447920"/>
          </a:xfrm>
          <a:prstGeom prst="ellipse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7" name=""/>
          <p:cNvGrpSpPr/>
          <p:nvPr/>
        </p:nvGrpSpPr>
        <p:grpSpPr>
          <a:xfrm>
            <a:off x="7696080" y="2666880"/>
            <a:ext cx="650880" cy="657360"/>
            <a:chOff x="7696080" y="2666880"/>
            <a:chExt cx="650880" cy="657360"/>
          </a:xfrm>
        </p:grpSpPr>
        <p:sp>
          <p:nvSpPr>
            <p:cNvPr id="288" name=""/>
            <p:cNvSpPr/>
            <p:nvPr/>
          </p:nvSpPr>
          <p:spPr>
            <a:xfrm>
              <a:off x="7696080" y="2673360"/>
              <a:ext cx="650880" cy="6508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8011800" y="2666880"/>
              <a:ext cx="308160" cy="341280"/>
            </a:xfrm>
            <a:custGeom>
              <a:avLst/>
              <a:gdLst/>
              <a:ahLst/>
              <a:rect l="l" t="t" r="r" b="b"/>
              <a:pathLst>
                <a:path w="194" h="215">
                  <a:moveTo>
                    <a:pt x="0" y="0"/>
                  </a:moveTo>
                  <a:lnTo>
                    <a:pt x="0" y="214"/>
                  </a:lnTo>
                  <a:lnTo>
                    <a:pt x="193" y="10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0" name=""/>
          <p:cNvSpPr/>
          <p:nvPr/>
        </p:nvSpPr>
        <p:spPr>
          <a:xfrm>
            <a:off x="4419720" y="4038480"/>
            <a:ext cx="2501640" cy="1127160"/>
          </a:xfrm>
          <a:prstGeom prst="ellipse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641840" y="4446720"/>
            <a:ext cx="441360" cy="441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248520" y="4419720"/>
            <a:ext cx="139680" cy="1346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638680" y="4495680"/>
            <a:ext cx="138240" cy="1382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019920" y="4648320"/>
            <a:ext cx="139680" cy="1378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334120" y="4267080"/>
            <a:ext cx="137880" cy="13356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410080" y="4952880"/>
            <a:ext cx="2502000" cy="1162080"/>
          </a:xfrm>
          <a:prstGeom prst="ellipse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715000" y="5562720"/>
            <a:ext cx="139680" cy="1396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324480" y="5715000"/>
            <a:ext cx="138240" cy="1382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7010280" y="5715000"/>
            <a:ext cx="139680" cy="1382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095880" y="5334120"/>
            <a:ext cx="138240" cy="1378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629400" y="5562720"/>
            <a:ext cx="138240" cy="1378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 flipH="1">
            <a:off x="4754520" y="3182760"/>
            <a:ext cx="2176560" cy="1003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915240" y="3182760"/>
            <a:ext cx="15840" cy="1428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334120" y="4876920"/>
            <a:ext cx="75960" cy="76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7085880" y="4191120"/>
            <a:ext cx="1625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-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341960" y="3200400"/>
            <a:ext cx="1303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e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635360" y="4457880"/>
            <a:ext cx="324000" cy="222120"/>
          </a:xfrm>
          <a:custGeom>
            <a:avLst/>
            <a:gdLst/>
            <a:ahLst/>
            <a:rect l="l" t="t" r="r" b="b"/>
            <a:pathLst>
              <a:path w="204" h="140">
                <a:moveTo>
                  <a:pt x="0" y="86"/>
                </a:moveTo>
                <a:lnTo>
                  <a:pt x="150" y="139"/>
                </a:lnTo>
                <a:lnTo>
                  <a:pt x="203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172200" y="2666880"/>
            <a:ext cx="139680" cy="1396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858000" y="2666880"/>
            <a:ext cx="138240" cy="1382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7391520" y="2895480"/>
            <a:ext cx="139680" cy="1382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629400" y="2971800"/>
            <a:ext cx="138240" cy="1382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7238880" y="2438280"/>
            <a:ext cx="138240" cy="1382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 flipH="1" flipV="1">
            <a:off x="5333760" y="4876560"/>
            <a:ext cx="144756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934320" y="5105520"/>
            <a:ext cx="441360" cy="441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927840" y="5116680"/>
            <a:ext cx="324000" cy="222120"/>
          </a:xfrm>
          <a:custGeom>
            <a:avLst/>
            <a:gdLst/>
            <a:ahLst/>
            <a:rect l="l" t="t" r="r" b="b"/>
            <a:pathLst>
              <a:path w="204" h="140">
                <a:moveTo>
                  <a:pt x="0" y="86"/>
                </a:moveTo>
                <a:lnTo>
                  <a:pt x="150" y="139"/>
                </a:lnTo>
                <a:lnTo>
                  <a:pt x="203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504600" y="5638680"/>
            <a:ext cx="2151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-sub-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5104800" y="1828800"/>
            <a:ext cx="16160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p 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8" name=""/>
          <p:cNvCxnSpPr>
            <a:stCxn id="306" idx="1"/>
            <a:endCxn id="291" idx="1"/>
          </p:cNvCxnSpPr>
          <p:nvPr/>
        </p:nvCxnSpPr>
        <p:spPr>
          <a:xfrm flipH="1" flipV="1" rot="10800000">
            <a:off x="4343040" y="3427920"/>
            <a:ext cx="364320" cy="1083240"/>
          </a:xfrm>
          <a:prstGeom prst="curvedConnector5">
            <a:avLst>
              <a:gd name="adj1" fmla="val -62809"/>
              <a:gd name="adj2" fmla="val 28789"/>
              <a:gd name="adj3" fmla="val -6280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DE246-456D-40B3-B1F7-410655B0EF6A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7B92A0-DEDE-4FD1-8528-3E94E8C90FB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tivating Schedules &amp; Swa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659400" y="2133720"/>
            <a:ext cx="18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809880" y="2133720"/>
            <a:ext cx="5029200" cy="39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observerSwarm activateIn: nil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activateIn: (id) swarmContex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super activateIn: swarmContext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displaySchedule activateIn:self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modelSwarm activateIn: self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[self getSwarmActivity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activateIn: (id) swarmContex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super activateIn: swarmContext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modelSchedule activateIn:self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[self getSwarmActivity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733920" y="4648320"/>
            <a:ext cx="5105160" cy="1523880"/>
          </a:xfrm>
          <a:prstGeom prst="rect">
            <a:avLst/>
          </a:prstGeom>
          <a:noFill/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733920" y="2590920"/>
            <a:ext cx="5105160" cy="190476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733920" y="2133720"/>
            <a:ext cx="5105160" cy="3808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066680" y="4800600"/>
            <a:ext cx="1905120" cy="990720"/>
          </a:xfrm>
          <a:prstGeom prst="ellipse">
            <a:avLst/>
          </a:prstGeom>
          <a:solidFill>
            <a:srgbClr val="008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219320" y="5181480"/>
            <a:ext cx="139680" cy="1396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828800" y="5334120"/>
            <a:ext cx="138240" cy="1378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133720" y="5334120"/>
            <a:ext cx="139680" cy="1378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600200" y="4952880"/>
            <a:ext cx="138240" cy="13824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371600" y="5334120"/>
            <a:ext cx="138240" cy="1378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286000" y="4952880"/>
            <a:ext cx="441360" cy="441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286000" y="4952880"/>
            <a:ext cx="324000" cy="222480"/>
          </a:xfrm>
          <a:custGeom>
            <a:avLst/>
            <a:gdLst/>
            <a:ahLst/>
            <a:rect l="l" t="t" r="r" b="b"/>
            <a:pathLst>
              <a:path w="204" h="140">
                <a:moveTo>
                  <a:pt x="0" y="86"/>
                </a:moveTo>
                <a:lnTo>
                  <a:pt x="150" y="139"/>
                </a:lnTo>
                <a:lnTo>
                  <a:pt x="203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066680" y="3124080"/>
            <a:ext cx="1905120" cy="99072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3276720"/>
            <a:ext cx="441360" cy="441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286000" y="3276720"/>
            <a:ext cx="324000" cy="222120"/>
          </a:xfrm>
          <a:custGeom>
            <a:avLst/>
            <a:gdLst/>
            <a:ahLst/>
            <a:rect l="l" t="t" r="r" b="b"/>
            <a:pathLst>
              <a:path w="204" h="140">
                <a:moveTo>
                  <a:pt x="0" y="86"/>
                </a:moveTo>
                <a:lnTo>
                  <a:pt x="150" y="139"/>
                </a:lnTo>
                <a:lnTo>
                  <a:pt x="203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509840" y="2019240"/>
            <a:ext cx="914400" cy="685800"/>
          </a:xfrm>
          <a:prstGeom prst="flowChartDocumen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371600" y="3352680"/>
            <a:ext cx="304920" cy="533520"/>
          </a:xfrm>
          <a:prstGeom prst="rect">
            <a:avLst/>
          </a:prstGeom>
          <a:solidFill>
            <a:srgbClr val="b2b2b2"/>
          </a:solidFill>
          <a:ln w="0">
            <a:noFill/>
          </a:ln>
          <a:effectLst>
            <a:outerShdw dist="153753" dir="2700000" blurRad="0" rotWithShape="0">
              <a:srgbClr val="6a6a6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828800" y="3429000"/>
            <a:ext cx="304920" cy="533520"/>
          </a:xfrm>
          <a:prstGeom prst="rect">
            <a:avLst/>
          </a:prstGeom>
          <a:solidFill>
            <a:srgbClr val="b2b2b2"/>
          </a:solidFill>
          <a:ln w="0">
            <a:noFill/>
          </a:ln>
          <a:effectLst>
            <a:outerShdw dist="153753" dir="2700000" blurRad="0" rotWithShape="0">
              <a:srgbClr val="6a6a6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9" name=""/>
          <p:cNvCxnSpPr>
            <a:stCxn id="336" idx="2"/>
            <a:endCxn id="333" idx="0"/>
          </p:cNvCxnSpPr>
          <p:nvPr/>
        </p:nvCxnSpPr>
        <p:spPr>
          <a:xfrm>
            <a:off x="1966680" y="2666880"/>
            <a:ext cx="5292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40" name=""/>
          <p:cNvCxnSpPr>
            <a:stCxn id="333" idx="4"/>
            <a:endCxn id="325" idx="0"/>
          </p:cNvCxnSpPr>
          <p:nvPr/>
        </p:nvCxnSpPr>
        <p:spPr>
          <a:xfrm>
            <a:off x="2018880" y="4114440"/>
            <a:ext cx="1080" cy="686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41" name=""/>
          <p:cNvSpPr/>
          <p:nvPr/>
        </p:nvSpPr>
        <p:spPr>
          <a:xfrm>
            <a:off x="2287080" y="4038480"/>
            <a:ext cx="129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2286720" y="5791320"/>
            <a:ext cx="97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C4787-E41E-4B31-9154-5D7FC392A320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6A355B-D969-4EE1-8B5B-A115105D99B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rd ses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on Swarm libra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llection: Lists, Arrays, Sorted li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: Random numb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alysis: Graphs, Histograms and data fil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ace: Lattice clas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vity: Schedules and ActivityGrou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977DC-E046-4A33-BFBC-7A8442F57A4E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9F7CF2-097A-42D9-8E97-896531ABAF4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jor Random clas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276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Random library can be divided i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lling initSwarm in main creates a default generator and distrib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43400" y="3200400"/>
            <a:ext cx="1447920" cy="10000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962520" y="4419720"/>
            <a:ext cx="533160" cy="3682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572000" y="4419720"/>
            <a:ext cx="533520" cy="3682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638680" y="4419720"/>
            <a:ext cx="533520" cy="3682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108040" y="4191120"/>
            <a:ext cx="56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50" name=""/>
          <p:cNvCxnSpPr>
            <a:stCxn id="345" idx="1"/>
            <a:endCxn id="346" idx="0"/>
          </p:cNvCxnSpPr>
          <p:nvPr/>
        </p:nvCxnSpPr>
        <p:spPr>
          <a:xfrm flipV="1" rot="10800000">
            <a:off x="4228560" y="3700080"/>
            <a:ext cx="114840" cy="7200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51" name=""/>
          <p:cNvCxnSpPr>
            <a:stCxn id="345" idx="3"/>
            <a:endCxn id="348" idx="0"/>
          </p:cNvCxnSpPr>
          <p:nvPr/>
        </p:nvCxnSpPr>
        <p:spPr>
          <a:xfrm>
            <a:off x="5790960" y="3700440"/>
            <a:ext cx="114840" cy="7200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52" name=""/>
          <p:cNvSpPr/>
          <p:nvPr/>
        </p:nvSpPr>
        <p:spPr>
          <a:xfrm>
            <a:off x="6934320" y="3200400"/>
            <a:ext cx="1447560" cy="10000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trib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6553080" y="4419720"/>
            <a:ext cx="533520" cy="3682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7162920" y="4419720"/>
            <a:ext cx="533160" cy="3682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8229600" y="4419720"/>
            <a:ext cx="533520" cy="3682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7698600" y="4191120"/>
            <a:ext cx="56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57" name=""/>
          <p:cNvCxnSpPr>
            <a:stCxn id="352" idx="1"/>
            <a:endCxn id="353" idx="0"/>
          </p:cNvCxnSpPr>
          <p:nvPr/>
        </p:nvCxnSpPr>
        <p:spPr>
          <a:xfrm flipV="1" rot="10800000">
            <a:off x="6819120" y="3700080"/>
            <a:ext cx="115200" cy="7200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58" name=""/>
          <p:cNvCxnSpPr>
            <a:stCxn id="352" idx="3"/>
            <a:endCxn id="355" idx="0"/>
          </p:cNvCxnSpPr>
          <p:nvPr/>
        </p:nvCxnSpPr>
        <p:spPr>
          <a:xfrm>
            <a:off x="8381880" y="3700440"/>
            <a:ext cx="115200" cy="7200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59" name=""/>
          <p:cNvSpPr/>
          <p:nvPr/>
        </p:nvSpPr>
        <p:spPr>
          <a:xfrm>
            <a:off x="5638680" y="1981080"/>
            <a:ext cx="1447920" cy="100512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60" name=""/>
          <p:cNvCxnSpPr>
            <a:stCxn id="359" idx="1"/>
            <a:endCxn id="345" idx="0"/>
          </p:cNvCxnSpPr>
          <p:nvPr/>
        </p:nvCxnSpPr>
        <p:spPr>
          <a:xfrm flipV="1" rot="10800000">
            <a:off x="5066640" y="2483280"/>
            <a:ext cx="572040" cy="716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1" name=""/>
          <p:cNvCxnSpPr>
            <a:stCxn id="359" idx="3"/>
            <a:endCxn id="352" idx="0"/>
          </p:cNvCxnSpPr>
          <p:nvPr/>
        </p:nvCxnSpPr>
        <p:spPr>
          <a:xfrm>
            <a:off x="7086600" y="2484000"/>
            <a:ext cx="572400" cy="716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"/>
          <p:cNvCxnSpPr>
            <a:stCxn id="345" idx="2"/>
            <a:endCxn id="347" idx="0"/>
          </p:cNvCxnSpPr>
          <p:nvPr/>
        </p:nvCxnSpPr>
        <p:spPr>
          <a:xfrm flipH="1">
            <a:off x="4838040" y="4200120"/>
            <a:ext cx="229320" cy="219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3" name=""/>
          <p:cNvCxnSpPr>
            <a:stCxn id="352" idx="2"/>
            <a:endCxn id="354" idx="0"/>
          </p:cNvCxnSpPr>
          <p:nvPr/>
        </p:nvCxnSpPr>
        <p:spPr>
          <a:xfrm flipH="1">
            <a:off x="7428960" y="4200120"/>
            <a:ext cx="229320" cy="219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638AE-8E3E-40D6-8094-4A994C312433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FF7F0D-DD63-42B7-82F0-8DCB17DEB8C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inciple of using Random li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draw random numbers from a distribution you’ll ne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generator in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st provide random seed - an integer number which primes the gen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distribution in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6019920" y="2514600"/>
            <a:ext cx="1447560" cy="10000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019920" y="4038480"/>
            <a:ext cx="1447560" cy="10000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785480" y="2779560"/>
            <a:ext cx="93528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se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4648320" y="5410080"/>
            <a:ext cx="380988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 sequence of numb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70" name=""/>
          <p:cNvCxnSpPr>
            <a:stCxn id="366" idx="2"/>
            <a:endCxn id="367" idx="0"/>
          </p:cNvCxnSpPr>
          <p:nvPr/>
        </p:nvCxnSpPr>
        <p:spPr>
          <a:xfrm>
            <a:off x="6743520" y="3514320"/>
            <a:ext cx="108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1" name=""/>
          <p:cNvCxnSpPr>
            <a:stCxn id="368" idx="3"/>
            <a:endCxn id="366" idx="1"/>
          </p:cNvCxnSpPr>
          <p:nvPr/>
        </p:nvCxnSpPr>
        <p:spPr>
          <a:xfrm>
            <a:off x="5726160" y="3013200"/>
            <a:ext cx="29448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705720" y="5029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8B7C7-7D71-4D20-9417-61155A6D9E4F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C1B53C-E1F8-4293-B3EE-84C6FF0A38C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fault distribu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098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calling initSwarm in main,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ree default distributio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generated, fed by 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fault gener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can’t control this generator’s seed, but can give command line ar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rySeed: New seed every 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wise always s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419720" y="3276720"/>
            <a:ext cx="1447560" cy="10000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T1993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6324480" y="2133720"/>
            <a:ext cx="1447920" cy="10000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324480" y="3276720"/>
            <a:ext cx="1447920" cy="10000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sig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324480" y="4419720"/>
            <a:ext cx="1447920" cy="10000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75" idx="0"/>
            <a:endCxn id="376" idx="1"/>
          </p:cNvCxnSpPr>
          <p:nvPr/>
        </p:nvCxnSpPr>
        <p:spPr>
          <a:xfrm flipH="1" flipV="1" rot="5400000">
            <a:off x="5412600" y="2364840"/>
            <a:ext cx="643320" cy="1181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80" name=""/>
          <p:cNvCxnSpPr>
            <a:stCxn id="375" idx="0"/>
            <a:endCxn id="377" idx="1"/>
          </p:cNvCxnSpPr>
          <p:nvPr/>
        </p:nvCxnSpPr>
        <p:spPr>
          <a:xfrm flipH="1" rot="16200000">
            <a:off x="5483880" y="2935080"/>
            <a:ext cx="500760" cy="1181520"/>
          </a:xfrm>
          <a:prstGeom prst="bentConnector4">
            <a:avLst>
              <a:gd name="adj1" fmla="val -45683"/>
              <a:gd name="adj2" fmla="val 8061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81" name=""/>
          <p:cNvCxnSpPr>
            <a:stCxn id="375" idx="0"/>
            <a:endCxn id="378" idx="1"/>
          </p:cNvCxnSpPr>
          <p:nvPr/>
        </p:nvCxnSpPr>
        <p:spPr>
          <a:xfrm flipH="1" rot="16200000">
            <a:off x="4912560" y="3507480"/>
            <a:ext cx="1643760" cy="1181520"/>
          </a:xfrm>
          <a:prstGeom prst="bentConnector4">
            <a:avLst>
              <a:gd name="adj1" fmla="val -13910"/>
              <a:gd name="adj2" fmla="val 8061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90121-598A-4439-8FC3-464F5584DD1D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5B8783-8E5C-4CFB-90D6-BFC642B75B6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ing the default distribu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ault distributions are global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call any distribution from any agen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uld feed own distribution from genera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a double in interval [minVal,maxVal]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uniformDblRand getDoubleWithMin: minVal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withMax: maxVal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an integer in interval [minVal,maxVal]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uniformIntegerRand getDoubleWithMin: minVal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withMax:maxVal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0E981-1314-4E7B-ACDB-3E8F601DBE9F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C7D61B-82CA-47BF-8358-2977379427F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>
            <a:off x="6477120" y="2411280"/>
            <a:ext cx="1828800" cy="45720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Random Number Generato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962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uters can’t create real random numb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se generators represent a large number of studies of pseudo RN gen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le of thumb: Choose well tested generator which has a long perio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800600" y="2487240"/>
            <a:ext cx="175248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2LCG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2MRG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2TA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3MW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4LCG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C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708600" y="2438280"/>
            <a:ext cx="15004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T199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W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WC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MMLC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SW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WC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WC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GFS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76920" y="2057400"/>
            <a:ext cx="30477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802040" y="1981080"/>
            <a:ext cx="390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tors in Swarm lib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4D4D5-2789-4723-B7E8-B2F267043085}" type="slidenum">
              <a:t>24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EA1C38-5117-49FE-8D2D-72111A43AB2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distribu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495320" y="1981080"/>
            <a:ext cx="3962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need setGenera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..and parameter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Bernoull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Probability: 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xponent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Me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Normal/LogNo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Variance, setMe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Gam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Alpha, setBe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9140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trib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rnoulliD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onentialD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mmaD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NormalD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rmalD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BitD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formDoubleD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formIntegerD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formUnsignedD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C1D06-B462-47A1-874C-683DA5C43E12}" type="slidenum">
              <a:t>2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C1E663-90D6-479D-ACC5-6CDA2D4C653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jor Probe clas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1371600" y="3124080"/>
            <a:ext cx="1454040" cy="10098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562720" y="3276720"/>
            <a:ext cx="1454040" cy="10094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5562720" y="4495680"/>
            <a:ext cx="1454040" cy="10098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le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7162920" y="4495680"/>
            <a:ext cx="1454040" cy="10098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le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962520" y="4495680"/>
            <a:ext cx="1454040" cy="10098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ust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286000" y="4495680"/>
            <a:ext cx="1454040" cy="10098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33520" y="4495680"/>
            <a:ext cx="1454040" cy="10098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rPro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3429000" y="2057400"/>
            <a:ext cx="1454040" cy="10065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03" name=""/>
          <p:cNvCxnSpPr>
            <a:stCxn id="402" idx="1"/>
            <a:endCxn id="395" idx="0"/>
          </p:cNvCxnSpPr>
          <p:nvPr/>
        </p:nvCxnSpPr>
        <p:spPr>
          <a:xfrm flipV="1" rot="10800000">
            <a:off x="2098080" y="2559600"/>
            <a:ext cx="133092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04" name=""/>
          <p:cNvCxnSpPr>
            <a:stCxn id="402" idx="3"/>
            <a:endCxn id="396" idx="0"/>
          </p:cNvCxnSpPr>
          <p:nvPr/>
        </p:nvCxnSpPr>
        <p:spPr>
          <a:xfrm>
            <a:off x="4882680" y="2560320"/>
            <a:ext cx="1407240" cy="716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05" name=""/>
          <p:cNvCxnSpPr>
            <a:stCxn id="395" idx="1"/>
            <a:endCxn id="401" idx="0"/>
          </p:cNvCxnSpPr>
          <p:nvPr/>
        </p:nvCxnSpPr>
        <p:spPr>
          <a:xfrm flipV="1" rot="10800000">
            <a:off x="1259640" y="3628080"/>
            <a:ext cx="111960" cy="8672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06" name=""/>
          <p:cNvCxnSpPr>
            <a:stCxn id="395" idx="3"/>
            <a:endCxn id="400" idx="0"/>
          </p:cNvCxnSpPr>
          <p:nvPr/>
        </p:nvCxnSpPr>
        <p:spPr>
          <a:xfrm>
            <a:off x="2825280" y="3628800"/>
            <a:ext cx="188280" cy="8672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07" name=""/>
          <p:cNvCxnSpPr>
            <a:stCxn id="396" idx="1"/>
            <a:endCxn id="399" idx="0"/>
          </p:cNvCxnSpPr>
          <p:nvPr/>
        </p:nvCxnSpPr>
        <p:spPr>
          <a:xfrm flipV="1" rot="10800000">
            <a:off x="4688640" y="3781080"/>
            <a:ext cx="874080" cy="714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08" name=""/>
          <p:cNvCxnSpPr>
            <a:stCxn id="396" idx="3"/>
            <a:endCxn id="398" idx="0"/>
          </p:cNvCxnSpPr>
          <p:nvPr/>
        </p:nvCxnSpPr>
        <p:spPr>
          <a:xfrm>
            <a:off x="7016400" y="3781440"/>
            <a:ext cx="873720" cy="714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09" name=""/>
          <p:cNvCxnSpPr>
            <a:stCxn id="396" idx="2"/>
            <a:endCxn id="397" idx="0"/>
          </p:cNvCxnSpPr>
          <p:nvPr/>
        </p:nvCxnSpPr>
        <p:spPr>
          <a:xfrm flipV="1" rot="10800000">
            <a:off x="6288840" y="4285800"/>
            <a:ext cx="1080" cy="2102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10" name=""/>
          <p:cNvSpPr/>
          <p:nvPr/>
        </p:nvSpPr>
        <p:spPr>
          <a:xfrm>
            <a:off x="7010280" y="1981080"/>
            <a:ext cx="1454400" cy="10098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6AAE0-7CD2-47A8-956A-92090818E21D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053BD9-816C-4ECC-AE01-28BAC6129FB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ing prob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major uses for prob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interface with an objec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create a GUI to an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face with an object of two typ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Probe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Probes an instance vari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ssageProbe:    Probes a 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UI utiliti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Map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Collection of Var and MessageProb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DF5AB-BE1E-48BD-AC99-1086432C49A8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D2C3E5-E938-4B80-A4D9-8258E4FA260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raphical probes to ag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 out instance of EmtpyProbeMa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ach VarProbe or MessageProbe to each variable or message to appear on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 each probe on the EmptyProbe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DisplayManager  asked to create wid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257800" y="5105520"/>
            <a:ext cx="2895480" cy="99036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105520" y="3886200"/>
            <a:ext cx="30456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724280" y="3581280"/>
            <a:ext cx="990720" cy="9907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105520" y="2971800"/>
            <a:ext cx="30456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095880" y="3886200"/>
            <a:ext cx="30492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5715000" y="3352680"/>
            <a:ext cx="990720" cy="9907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5410080" y="2895480"/>
            <a:ext cx="30492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963960" y="4648320"/>
            <a:ext cx="146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Prob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7162920" y="3886200"/>
            <a:ext cx="30456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781680" y="3276720"/>
            <a:ext cx="990720" cy="99036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943600" y="2971800"/>
            <a:ext cx="30492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876920" y="2209680"/>
            <a:ext cx="1904760" cy="14479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5029200" y="2438280"/>
            <a:ext cx="8380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4952880" y="3124080"/>
            <a:ext cx="16765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867280" y="2286000"/>
            <a:ext cx="685800" cy="304920"/>
          </a:xfrm>
          <a:prstGeom prst="rect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029200" y="2819520"/>
            <a:ext cx="8380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867280" y="2666880"/>
            <a:ext cx="685800" cy="304920"/>
          </a:xfrm>
          <a:prstGeom prst="rect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6858360" y="213372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ssagePro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3" name=""/>
          <p:cNvCxnSpPr>
            <a:stCxn id="422" idx="0"/>
            <a:endCxn id="417" idx="2"/>
          </p:cNvCxnSpPr>
          <p:nvPr/>
        </p:nvCxnSpPr>
        <p:spPr>
          <a:xfrm flipH="1" flipV="1" rot="5400000">
            <a:off x="4425480" y="4349520"/>
            <a:ext cx="572400" cy="259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4" name=""/>
          <p:cNvCxnSpPr>
            <a:stCxn id="422" idx="2"/>
            <a:endCxn id="420" idx="4"/>
          </p:cNvCxnSpPr>
          <p:nvPr/>
        </p:nvCxnSpPr>
        <p:spPr>
          <a:xfrm flipH="1" flipV="1" rot="5400000">
            <a:off x="5073480" y="3968280"/>
            <a:ext cx="762840" cy="1512000"/>
          </a:xfrm>
          <a:prstGeom prst="curvedConnector5">
            <a:avLst>
              <a:gd name="adj1" fmla="val -29981"/>
              <a:gd name="adj2" fmla="val 49988"/>
              <a:gd name="adj3" fmla="val -2998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5" name=""/>
          <p:cNvCxnSpPr>
            <a:stCxn id="432" idx="2"/>
            <a:endCxn id="424" idx="7"/>
          </p:cNvCxnSpPr>
          <p:nvPr/>
        </p:nvCxnSpPr>
        <p:spPr>
          <a:xfrm rot="5400000">
            <a:off x="7317720" y="2900520"/>
            <a:ext cx="830880" cy="211680"/>
          </a:xfrm>
          <a:prstGeom prst="curvedConnector5">
            <a:avLst>
              <a:gd name="adj1" fmla="val 41265"/>
              <a:gd name="adj2" fmla="val 49914"/>
              <a:gd name="adj3" fmla="val 4126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4192200" y="1981080"/>
            <a:ext cx="145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0B159-2DD2-4F6A-9D26-5127FA201E83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108E39-2BD1-4C6C-84C1-9F9A6714829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de for previous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obeMap=[EmptyProbeMap createBegin: aZone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probeMap setProbedClass: [self class]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obeMap=[probeMap createEnd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probeMap addProbe: [probe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etProbeForVariable: ”someVar"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Class: [agent class]]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probeMap addProbe: [probeLibrary getProbeForMessage: ”someMessage"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inClass: [agent class]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tHideResult: 1]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probeLibrary setProbeMap: probeM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: [self class]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probeDisplayManager createProbeDisplayFor: modelSwarm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609480" y="1600200"/>
            <a:ext cx="8001000" cy="403848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609480" y="5715000"/>
            <a:ext cx="8001000" cy="5335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3E1AB-2BEA-48AE-B039-1103E1C5FFD6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00E9B2-352C-402E-84F7-4E719920A56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librar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04920" y="5486400"/>
            <a:ext cx="8397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: It is actually impossible to draw the class hierarchy because some of the lib directories contain classes from different branch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724280" y="1752480"/>
            <a:ext cx="1316160" cy="911520"/>
          </a:xfrm>
          <a:prstGeom prst="rect">
            <a:avLst/>
          </a:prstGeom>
          <a:solidFill>
            <a:srgbClr val="33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fob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124080" y="4572000"/>
            <a:ext cx="1316160" cy="9111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752480" y="4572000"/>
            <a:ext cx="1316160" cy="9158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562720" y="3048120"/>
            <a:ext cx="1315800" cy="9111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l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4572000"/>
            <a:ext cx="1316160" cy="911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391520" y="4572000"/>
            <a:ext cx="1315800" cy="9111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kobj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495680" y="4572000"/>
            <a:ext cx="1316160" cy="907920"/>
          </a:xfrm>
          <a:prstGeom prst="rect">
            <a:avLst/>
          </a:prstGeom>
          <a:solidFill>
            <a:srgbClr val="ff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733920" y="3048120"/>
            <a:ext cx="1315800" cy="911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391520" y="3048120"/>
            <a:ext cx="1315800" cy="9111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" name=""/>
          <p:cNvCxnSpPr>
            <a:stCxn id="47" idx="3"/>
            <a:endCxn id="55" idx="0"/>
          </p:cNvCxnSpPr>
          <p:nvPr/>
        </p:nvCxnSpPr>
        <p:spPr>
          <a:xfrm>
            <a:off x="6040080" y="2207880"/>
            <a:ext cx="2010600" cy="840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"/>
          <p:cNvSpPr/>
          <p:nvPr/>
        </p:nvSpPr>
        <p:spPr>
          <a:xfrm>
            <a:off x="1371600" y="1752480"/>
            <a:ext cx="1316160" cy="911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v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8" name=""/>
          <p:cNvCxnSpPr>
            <a:stCxn id="47" idx="1"/>
            <a:endCxn id="57" idx="3"/>
          </p:cNvCxnSpPr>
          <p:nvPr/>
        </p:nvCxnSpPr>
        <p:spPr>
          <a:xfrm rot="10800000">
            <a:off x="2687040" y="2207520"/>
            <a:ext cx="203724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55" idx="2"/>
            <a:endCxn id="52" idx="0"/>
          </p:cNvCxnSpPr>
          <p:nvPr/>
        </p:nvCxnSpPr>
        <p:spPr>
          <a:xfrm>
            <a:off x="8049960" y="3959280"/>
            <a:ext cx="1080" cy="613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54" idx="2"/>
            <a:endCxn id="51" idx="0"/>
          </p:cNvCxnSpPr>
          <p:nvPr/>
        </p:nvCxnSpPr>
        <p:spPr>
          <a:xfrm rot="5400000">
            <a:off x="2409120" y="2589120"/>
            <a:ext cx="613440" cy="3353760"/>
          </a:xfrm>
          <a:prstGeom prst="bentConnector3">
            <a:avLst>
              <a:gd name="adj1" fmla="val 4997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4" idx="2"/>
            <a:endCxn id="53" idx="0"/>
          </p:cNvCxnSpPr>
          <p:nvPr/>
        </p:nvCxnSpPr>
        <p:spPr>
          <a:xfrm flipH="1" rot="16200000">
            <a:off x="4467240" y="3884400"/>
            <a:ext cx="613440" cy="762480"/>
          </a:xfrm>
          <a:prstGeom prst="bentConnector3">
            <a:avLst>
              <a:gd name="adj1" fmla="val 4997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4" idx="2"/>
            <a:endCxn id="49" idx="0"/>
          </p:cNvCxnSpPr>
          <p:nvPr/>
        </p:nvCxnSpPr>
        <p:spPr>
          <a:xfrm rot="5400000">
            <a:off x="3094920" y="3274920"/>
            <a:ext cx="613440" cy="1982160"/>
          </a:xfrm>
          <a:prstGeom prst="bentConnector3">
            <a:avLst>
              <a:gd name="adj1" fmla="val 4997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54" idx="2"/>
            <a:endCxn id="48" idx="0"/>
          </p:cNvCxnSpPr>
          <p:nvPr/>
        </p:nvCxnSpPr>
        <p:spPr>
          <a:xfrm rot="5400000">
            <a:off x="3780720" y="3960720"/>
            <a:ext cx="613440" cy="610560"/>
          </a:xfrm>
          <a:prstGeom prst="bentConnector3">
            <a:avLst>
              <a:gd name="adj1" fmla="val 4997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4" name=""/>
          <p:cNvCxnSpPr>
            <a:stCxn id="47" idx="2"/>
            <a:endCxn id="54" idx="0"/>
          </p:cNvCxnSpPr>
          <p:nvPr/>
        </p:nvCxnSpPr>
        <p:spPr>
          <a:xfrm rot="5400000">
            <a:off x="4695120" y="2360520"/>
            <a:ext cx="384840" cy="9910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" name=""/>
          <p:cNvCxnSpPr>
            <a:stCxn id="47" idx="2"/>
            <a:endCxn id="50" idx="0"/>
          </p:cNvCxnSpPr>
          <p:nvPr/>
        </p:nvCxnSpPr>
        <p:spPr>
          <a:xfrm flipH="1" rot="16200000">
            <a:off x="5609160" y="2436480"/>
            <a:ext cx="384840" cy="8391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6" name=""/>
          <p:cNvSpPr/>
          <p:nvPr/>
        </p:nvSpPr>
        <p:spPr>
          <a:xfrm>
            <a:off x="5867280" y="4572000"/>
            <a:ext cx="1316160" cy="90972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" name=""/>
          <p:cNvCxnSpPr>
            <a:stCxn id="54" idx="2"/>
            <a:endCxn id="66" idx="0"/>
          </p:cNvCxnSpPr>
          <p:nvPr/>
        </p:nvCxnSpPr>
        <p:spPr>
          <a:xfrm flipH="1" rot="16200000">
            <a:off x="5153040" y="3198600"/>
            <a:ext cx="613440" cy="2134080"/>
          </a:xfrm>
          <a:prstGeom prst="bentConnector3">
            <a:avLst>
              <a:gd name="adj1" fmla="val 4997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8" name=""/>
          <p:cNvSpPr/>
          <p:nvPr/>
        </p:nvSpPr>
        <p:spPr>
          <a:xfrm>
            <a:off x="533520" y="3048120"/>
            <a:ext cx="1315800" cy="9111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209680" y="3048120"/>
            <a:ext cx="1316160" cy="9111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warm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0" name=""/>
          <p:cNvCxnSpPr>
            <a:stCxn id="57" idx="2"/>
            <a:endCxn id="68" idx="0"/>
          </p:cNvCxnSpPr>
          <p:nvPr/>
        </p:nvCxnSpPr>
        <p:spPr>
          <a:xfrm rot="5400000">
            <a:off x="1418760" y="2436840"/>
            <a:ext cx="384840" cy="8388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"/>
          <p:cNvCxnSpPr>
            <a:stCxn id="57" idx="2"/>
            <a:endCxn id="69" idx="0"/>
          </p:cNvCxnSpPr>
          <p:nvPr/>
        </p:nvCxnSpPr>
        <p:spPr>
          <a:xfrm flipH="1" rot="16200000">
            <a:off x="2257200" y="2436480"/>
            <a:ext cx="384840" cy="8388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A7E98-405E-4F8D-915C-7895A2813407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2D26B5-5C52-41DB-9315-08382D70DCE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uses for prob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 of dynamic message calling where message is chosen at runtime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eProbe=[MessageProbe createBegin: zone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theProbe setProbedSelector: theSelector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eProbe=[theProbe createEnd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nIndex=[aCollection begin: zone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hile((aMember=[anIndex next])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eData=[theProbe doubleDynamicCallOn: aMember]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self doSomething: theData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anIndex drop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47640" y="3048120"/>
            <a:ext cx="533520" cy="533160"/>
          </a:xfrm>
          <a:custGeom>
            <a:avLst/>
            <a:gdLst>
              <a:gd name="textAreaLeft" fmla="*/ 121680 w 533520"/>
              <a:gd name="textAreaRight" fmla="*/ 411840 w 533520"/>
              <a:gd name="textAreaTop" fmla="*/ 121680 h 533160"/>
              <a:gd name="textAreaBottom" fmla="*/ 4114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647640" y="4191120"/>
            <a:ext cx="533520" cy="533160"/>
          </a:xfrm>
          <a:custGeom>
            <a:avLst/>
            <a:gdLst>
              <a:gd name="textAreaLeft" fmla="*/ 121680 w 533520"/>
              <a:gd name="textAreaRight" fmla="*/ 411840 w 533520"/>
              <a:gd name="textAreaTop" fmla="*/ 121680 h 533160"/>
              <a:gd name="textAreaBottom" fmla="*/ 4114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6B390-2EA9-41FC-A2EF-BCEFAA526652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8236AB-3A4F-4B71-B832-CDC343CE472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jor Analysis clas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ZGrap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athers and displays data on line grap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ZB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es same for histog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unctionGrap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raphs y values of function over range of x val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erager,Entropy and EZ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llect statistics from collection of obj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281560" y="3975120"/>
            <a:ext cx="1052640" cy="6714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vera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4591080" y="2895480"/>
            <a:ext cx="1052640" cy="6717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ZGrap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6431040" y="3975120"/>
            <a:ext cx="1050840" cy="673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ZB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6248520" y="2057400"/>
            <a:ext cx="1052280" cy="6699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bjectb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7662960" y="3970440"/>
            <a:ext cx="1052280" cy="6699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trop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6431040" y="4908600"/>
            <a:ext cx="1050840" cy="673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7086600" y="2895480"/>
            <a:ext cx="1052640" cy="671760"/>
          </a:xfrm>
          <a:prstGeom prst="rect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54" name=""/>
          <p:cNvCxnSpPr>
            <a:stCxn id="453" idx="2"/>
            <a:endCxn id="447" idx="0"/>
          </p:cNvCxnSpPr>
          <p:nvPr/>
        </p:nvCxnSpPr>
        <p:spPr>
          <a:xfrm rot="5400000">
            <a:off x="6506640" y="2868480"/>
            <a:ext cx="408600" cy="1805760"/>
          </a:xfrm>
          <a:prstGeom prst="bentConnector3">
            <a:avLst>
              <a:gd name="adj1" fmla="val 4973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5" name=""/>
          <p:cNvCxnSpPr/>
          <p:nvPr/>
        </p:nvCxnSpPr>
        <p:spPr>
          <a:xfrm flipH="1" rot="16200000">
            <a:off x="7699320" y="3494520"/>
            <a:ext cx="403920" cy="577080"/>
          </a:xfrm>
          <a:prstGeom prst="bentConnector3">
            <a:avLst>
              <a:gd name="adj1" fmla="val 4683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6" name=""/>
          <p:cNvCxnSpPr>
            <a:stCxn id="449" idx="2"/>
            <a:endCxn id="452" idx="0"/>
          </p:cNvCxnSpPr>
          <p:nvPr/>
        </p:nvCxnSpPr>
        <p:spPr>
          <a:xfrm>
            <a:off x="6955920" y="4647960"/>
            <a:ext cx="1080" cy="26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7" name=""/>
          <p:cNvCxnSpPr>
            <a:stCxn id="450" idx="1"/>
            <a:endCxn id="448" idx="0"/>
          </p:cNvCxnSpPr>
          <p:nvPr/>
        </p:nvCxnSpPr>
        <p:spPr>
          <a:xfrm flipV="1" rot="10800000">
            <a:off x="5117400" y="2391840"/>
            <a:ext cx="1131120" cy="5040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8" name=""/>
          <p:cNvCxnSpPr>
            <a:stCxn id="450" idx="3"/>
            <a:endCxn id="453" idx="0"/>
          </p:cNvCxnSpPr>
          <p:nvPr/>
        </p:nvCxnSpPr>
        <p:spPr>
          <a:xfrm>
            <a:off x="7300440" y="2392200"/>
            <a:ext cx="313560" cy="5040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59" name=""/>
          <p:cNvSpPr/>
          <p:nvPr/>
        </p:nvSpPr>
        <p:spPr>
          <a:xfrm>
            <a:off x="5867280" y="2895480"/>
            <a:ext cx="1052640" cy="6717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rap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0" name=""/>
          <p:cNvCxnSpPr>
            <a:stCxn id="450" idx="2"/>
            <a:endCxn id="459" idx="0"/>
          </p:cNvCxnSpPr>
          <p:nvPr/>
        </p:nvCxnSpPr>
        <p:spPr>
          <a:xfrm rot="5400000">
            <a:off x="6500160" y="2620440"/>
            <a:ext cx="168840" cy="3819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61" name=""/>
          <p:cNvSpPr/>
          <p:nvPr/>
        </p:nvSpPr>
        <p:spPr>
          <a:xfrm>
            <a:off x="6934320" y="38098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08211-AD17-4D01-910A-2D7A772D5E11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ED5A3D-DCC9-40CD-8253-0922C66BA55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ing EZGrap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ZGraph is a wrapper around several ob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ows creation and setup to be achieved in one fell swoo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fter setting title and labels must add one or more seque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cessary step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) create an in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) setTitle: titleSt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) setAxisLabelsX: str Y: st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) Add sequence(s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feed from ob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 feed from collecti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verageSequence TotalSequ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inSequence MaxSequ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18ED3-D980-4092-9E81-CD8318801AF5}" type="slidenum">
              <a:t>32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931F2B-0BF4-4453-9DC9-3AC21FAE356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eating an EZGrap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6" name="ezgraph" descr=""/>
          <p:cNvPicPr/>
          <p:nvPr/>
        </p:nvPicPr>
        <p:blipFill>
          <a:blip r:embed="rId1"/>
          <a:stretch/>
        </p:blipFill>
        <p:spPr>
          <a:xfrm>
            <a:off x="663480" y="1895400"/>
            <a:ext cx="3886200" cy="2610000"/>
          </a:xfrm>
          <a:prstGeom prst="rect">
            <a:avLst/>
          </a:prstGeom>
          <a:ln w="0">
            <a:noFill/>
          </a:ln>
        </p:spPr>
      </p:pic>
      <p:sp>
        <p:nvSpPr>
          <p:cNvPr id="467" name=""/>
          <p:cNvSpPr/>
          <p:nvPr/>
        </p:nvSpPr>
        <p:spPr>
          <a:xfrm>
            <a:off x="3884760" y="3203640"/>
            <a:ext cx="4398840" cy="24717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sequence with feed from collection is created w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creat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quence: aSt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ithFeedFrom: coll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ndSelector: M(metho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one of Average, Total, Min, Max or Cou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6651720" y="3921120"/>
            <a:ext cx="125100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St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9" name=""/>
          <p:cNvCxnSpPr/>
          <p:nvPr/>
        </p:nvCxnSpPr>
        <p:spPr>
          <a:xfrm flipV="1" rot="16200000">
            <a:off x="5421240" y="1740600"/>
            <a:ext cx="1197360" cy="3162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0" name=""/>
          <p:cNvCxnSpPr>
            <a:stCxn id="467" idx="1"/>
          </p:cNvCxnSpPr>
          <p:nvPr/>
        </p:nvCxnSpPr>
        <p:spPr>
          <a:xfrm rot="10800000">
            <a:off x="2733120" y="3714120"/>
            <a:ext cx="1151640" cy="7275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1" name=""/>
          <p:cNvCxnSpPr/>
          <p:nvPr/>
        </p:nvCxnSpPr>
        <p:spPr>
          <a:xfrm flipV="1" rot="10800000">
            <a:off x="2380680" y="2160360"/>
            <a:ext cx="2286720" cy="20692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2" name=""/>
          <p:cNvSpPr/>
          <p:nvPr/>
        </p:nvSpPr>
        <p:spPr>
          <a:xfrm>
            <a:off x="771480" y="4842000"/>
            <a:ext cx="2923920" cy="7646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title, made wit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setTitle: aSt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3" name=""/>
          <p:cNvCxnSpPr>
            <a:stCxn id="472" idx="0"/>
          </p:cNvCxnSpPr>
          <p:nvPr/>
        </p:nvCxnSpPr>
        <p:spPr>
          <a:xfrm flipV="1" rot="16200000">
            <a:off x="581040" y="3189600"/>
            <a:ext cx="2537640" cy="7671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4" name=""/>
          <p:cNvSpPr/>
          <p:nvPr/>
        </p:nvSpPr>
        <p:spPr>
          <a:xfrm>
            <a:off x="4197600" y="1774800"/>
            <a:ext cx="4295520" cy="764640"/>
          </a:xfrm>
          <a:prstGeom prst="rect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axis labels, set w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setAxisLabelsX: str Y: st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99858-6DA5-4556-8EE4-AF53AD496FCC}" type="slidenum">
              <a:t>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22995E-235B-4052-B645-53625CEB33E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ing EZB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62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ZBin, is also a wrapper around several ob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type of graph needs to be told the number of bins for histogram and interval in which values l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381560" y="1981080"/>
            <a:ext cx="428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cessary step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) create an in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) setTitle: titleSt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) setCollection: coll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) setProbedSelector:M(metho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) setBinNum: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) setUpperBound:  and setLowerBoun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5AE89-441A-4811-88D1-633C06D9A8EA}" type="slidenum">
              <a:t>34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836AC6-D2A7-4CCF-A459-1085497B660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eating an EZB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9" name="ezbin" descr=""/>
          <p:cNvPicPr/>
          <p:nvPr/>
        </p:nvPicPr>
        <p:blipFill>
          <a:blip r:embed="rId1"/>
          <a:stretch/>
        </p:blipFill>
        <p:spPr>
          <a:xfrm>
            <a:off x="552600" y="1957320"/>
            <a:ext cx="3886200" cy="2638440"/>
          </a:xfrm>
          <a:prstGeom prst="rect">
            <a:avLst/>
          </a:prstGeom>
          <a:ln w="0">
            <a:noFill/>
          </a:ln>
        </p:spPr>
      </p:pic>
      <p:sp>
        <p:nvSpPr>
          <p:cNvPr id="480" name=""/>
          <p:cNvSpPr/>
          <p:nvPr/>
        </p:nvSpPr>
        <p:spPr>
          <a:xfrm>
            <a:off x="3846600" y="4842000"/>
            <a:ext cx="4551120" cy="14353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is fed into Histogram b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setCollection: coll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setProbedSelector:M(metho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771480" y="4842000"/>
            <a:ext cx="2923920" cy="7646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title, made wit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setTitle: aSt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2" name=""/>
          <p:cNvCxnSpPr>
            <a:stCxn id="481" idx="0"/>
          </p:cNvCxnSpPr>
          <p:nvPr/>
        </p:nvCxnSpPr>
        <p:spPr>
          <a:xfrm flipV="1" rot="16200000">
            <a:off x="581040" y="3189600"/>
            <a:ext cx="2537640" cy="7671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3" name=""/>
          <p:cNvSpPr/>
          <p:nvPr/>
        </p:nvSpPr>
        <p:spPr>
          <a:xfrm>
            <a:off x="3816360" y="3984480"/>
            <a:ext cx="4295520" cy="764640"/>
          </a:xfrm>
          <a:prstGeom prst="rect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axis labels, set w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setAxisLabelsX: str Y: st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4" name=""/>
          <p:cNvCxnSpPr>
            <a:stCxn id="483" idx="1"/>
          </p:cNvCxnSpPr>
          <p:nvPr/>
        </p:nvCxnSpPr>
        <p:spPr>
          <a:xfrm flipV="1" rot="10800000">
            <a:off x="2552040" y="4370040"/>
            <a:ext cx="1257840" cy="7848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5" name=""/>
          <p:cNvSpPr/>
          <p:nvPr/>
        </p:nvSpPr>
        <p:spPr>
          <a:xfrm>
            <a:off x="3813120" y="2308320"/>
            <a:ext cx="4929480" cy="1435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number of bins is determined w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setNumBins: n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the range of values b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setUpperBound: -setLowerBound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6" name=""/>
          <p:cNvCxnSpPr>
            <a:stCxn id="485" idx="1"/>
          </p:cNvCxnSpPr>
          <p:nvPr/>
        </p:nvCxnSpPr>
        <p:spPr>
          <a:xfrm flipV="1" rot="10800000">
            <a:off x="2628360" y="3027960"/>
            <a:ext cx="1184760" cy="11055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FCEB7-A921-4EE4-96EB-86E7E99A4768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32FF5B-4EFA-496F-80E0-EDD7A6A3621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utility objects in Analy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era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ts feed from collection and calculat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er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495320" y="1981080"/>
            <a:ext cx="3962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trop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ts feed from collection and calculates entropy assuming data is probabil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Z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class of EZBin, gives acces to underlying distribution of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B4941-36EE-4AAF-82FE-695A15B038EA}" type="slidenum">
              <a:t>36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4E5812-79B9-40BD-9006-B346E3100FF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"/>
          <p:cNvSpPr/>
          <p:nvPr/>
        </p:nvSpPr>
        <p:spPr>
          <a:xfrm>
            <a:off x="4952880" y="1828800"/>
            <a:ext cx="35053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57200" y="1828800"/>
            <a:ext cx="41148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aster and Object2dDispla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533520" y="2209680"/>
            <a:ext cx="1676160" cy="1752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5181480" y="1981080"/>
            <a:ext cx="1752840" cy="152424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screte2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1600200" y="3124080"/>
            <a:ext cx="304920" cy="304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914400" y="2438280"/>
            <a:ext cx="304920" cy="3049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7" name=""/>
          <p:cNvCxnSpPr>
            <a:stCxn id="494" idx="1"/>
            <a:endCxn id="498" idx="5"/>
          </p:cNvCxnSpPr>
          <p:nvPr/>
        </p:nvCxnSpPr>
        <p:spPr>
          <a:xfrm flipV="1" rot="10800000">
            <a:off x="4237920" y="2742840"/>
            <a:ext cx="943560" cy="658080"/>
          </a:xfrm>
          <a:prstGeom prst="bentConnector4">
            <a:avLst>
              <a:gd name="adj1" fmla="val 36335"/>
              <a:gd name="adj2" fmla="val 173891"/>
            </a:avLst>
          </a:prstGeom>
          <a:ln w="57240">
            <a:solidFill>
              <a:srgbClr val="808080"/>
            </a:solidFill>
            <a:miter/>
            <a:tailEnd len="med" type="triangle" w="med"/>
          </a:ln>
        </p:spPr>
      </p:cxnSp>
      <p:sp>
        <p:nvSpPr>
          <p:cNvPr id="499" name=""/>
          <p:cNvSpPr/>
          <p:nvPr/>
        </p:nvSpPr>
        <p:spPr>
          <a:xfrm>
            <a:off x="841320" y="3429000"/>
            <a:ext cx="112860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a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6629400" y="3249720"/>
            <a:ext cx="1671480" cy="1191240"/>
          </a:xfrm>
          <a:prstGeom prst="borderCallout1">
            <a:avLst>
              <a:gd name="adj1" fmla="val 18750"/>
              <a:gd name="adj2" fmla="val -8333"/>
              <a:gd name="adj3" fmla="val -33712"/>
              <a:gd name="adj4" fmla="val -2771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lds x,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tions of ag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2743200" y="1905120"/>
            <a:ext cx="1752480" cy="17524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bject2dDispl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2819520" y="3733920"/>
            <a:ext cx="1371600" cy="13716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Colorm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953600" y="472428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534240" y="4724280"/>
            <a:ext cx="21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r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365040" y="5272200"/>
            <a:ext cx="8321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in purpose of Object2dDisplay to catch messages from Raster widget on a mouse-click. It then opens up a probe to the object that at this  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5" name=""/>
          <p:cNvCxnSpPr>
            <a:stCxn id="498" idx="2"/>
            <a:endCxn id="493" idx="3"/>
          </p:cNvCxnSpPr>
          <p:nvPr/>
        </p:nvCxnSpPr>
        <p:spPr>
          <a:xfrm flipV="1" rot="10800000">
            <a:off x="2208960" y="2780280"/>
            <a:ext cx="534240" cy="305640"/>
          </a:xfrm>
          <a:prstGeom prst="bentConnector3">
            <a:avLst>
              <a:gd name="adj1" fmla="val 49966"/>
            </a:avLst>
          </a:prstGeom>
          <a:ln w="57240">
            <a:solidFill>
              <a:srgbClr val="808080"/>
            </a:solidFill>
            <a:miter/>
            <a:tailEnd len="med" type="triangle" w="med"/>
          </a:ln>
        </p:spPr>
      </p:cxnSp>
      <p:cxnSp>
        <p:nvCxnSpPr>
          <p:cNvPr id="506" name=""/>
          <p:cNvCxnSpPr>
            <a:stCxn id="501" idx="2"/>
            <a:endCxn id="493" idx="2"/>
          </p:cNvCxnSpPr>
          <p:nvPr/>
        </p:nvCxnSpPr>
        <p:spPr>
          <a:xfrm rot="10800000">
            <a:off x="1370880" y="3961800"/>
            <a:ext cx="1448640" cy="457920"/>
          </a:xfrm>
          <a:prstGeom prst="bentConnector2">
            <a:avLst/>
          </a:prstGeom>
          <a:ln w="57240">
            <a:solidFill>
              <a:srgbClr val="808080"/>
            </a:solidFill>
            <a:miter/>
            <a:tailEnd len="med" type="triangle" w="med"/>
          </a:ln>
        </p:spPr>
      </p:cxnSp>
      <p:sp>
        <p:nvSpPr>
          <p:cNvPr id="507" name=""/>
          <p:cNvSpPr/>
          <p:nvPr/>
        </p:nvSpPr>
        <p:spPr>
          <a:xfrm>
            <a:off x="5410080" y="3048120"/>
            <a:ext cx="990720" cy="9144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g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8A16F-867E-4C4F-AB61-63239F5CF671}" type="slidenum">
              <a:t>3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4BC1AB-C920-411F-8C5B-FB796CB5072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08" name=""/>
          <p:cNvCxnSpPr>
            <a:stCxn id="509" idx="3"/>
            <a:endCxn id="510" idx="2"/>
          </p:cNvCxnSpPr>
          <p:nvPr/>
        </p:nvCxnSpPr>
        <p:spPr>
          <a:xfrm>
            <a:off x="4723920" y="2971800"/>
            <a:ext cx="877320" cy="381600"/>
          </a:xfrm>
          <a:prstGeom prst="curvedConnector5">
            <a:avLst>
              <a:gd name="adj1" fmla="val 17364"/>
              <a:gd name="adj2" fmla="val 79981"/>
              <a:gd name="adj3" fmla="val 17364"/>
            </a:avLst>
          </a:prstGeom>
          <a:ln w="9360">
            <a:solidFill>
              <a:srgbClr val="000000"/>
            </a:solidFill>
            <a:prstDash val="lgDash"/>
            <a:miter/>
          </a:ln>
        </p:spPr>
      </p:cxnSp>
      <p:cxnSp>
        <p:nvCxnSpPr>
          <p:cNvPr id="511" name=""/>
          <p:cNvCxnSpPr>
            <a:stCxn id="509" idx="3"/>
            <a:endCxn id="512" idx="2"/>
          </p:cNvCxnSpPr>
          <p:nvPr/>
        </p:nvCxnSpPr>
        <p:spPr>
          <a:xfrm>
            <a:off x="4723920" y="2971800"/>
            <a:ext cx="2248920" cy="381600"/>
          </a:xfrm>
          <a:prstGeom prst="curvedConnector5">
            <a:avLst>
              <a:gd name="adj1" fmla="val 37271"/>
              <a:gd name="adj2" fmla="val 79981"/>
              <a:gd name="adj3" fmla="val 37271"/>
            </a:avLst>
          </a:prstGeom>
          <a:ln w="9360">
            <a:solidFill>
              <a:srgbClr val="000000"/>
            </a:solidFill>
            <a:prstDash val="lgDash"/>
            <a:miter/>
          </a:ln>
        </p:spPr>
      </p:cxnSp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classes in 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3581280" y="1676520"/>
            <a:ext cx="1143000" cy="7617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3581280" y="2590920"/>
            <a:ext cx="1143000" cy="7617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crete2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2819520" y="3505320"/>
            <a:ext cx="1143000" cy="7617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blBuff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4267080" y="3505320"/>
            <a:ext cx="1143000" cy="7617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id2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2133720" y="4419720"/>
            <a:ext cx="1143000" cy="7617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w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f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3505320" y="4419720"/>
            <a:ext cx="1143000" cy="7617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2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3505320" y="5334120"/>
            <a:ext cx="1143000" cy="7617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029200" y="2590920"/>
            <a:ext cx="1143000" cy="7617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2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6400800" y="2590920"/>
            <a:ext cx="1143000" cy="7617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2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905120" y="2590920"/>
            <a:ext cx="1143000" cy="7617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2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1" name=""/>
          <p:cNvCxnSpPr>
            <a:stCxn id="514" idx="2"/>
            <a:endCxn id="509" idx="0"/>
          </p:cNvCxnSpPr>
          <p:nvPr/>
        </p:nvCxnSpPr>
        <p:spPr>
          <a:xfrm flipV="1" rot="10800000">
            <a:off x="4152240" y="2437920"/>
            <a:ext cx="108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2" name=""/>
          <p:cNvCxnSpPr>
            <a:stCxn id="509" idx="1"/>
            <a:endCxn id="515" idx="0"/>
          </p:cNvCxnSpPr>
          <p:nvPr/>
        </p:nvCxnSpPr>
        <p:spPr>
          <a:xfrm flipV="1" rot="10800000">
            <a:off x="3390120" y="2971440"/>
            <a:ext cx="191160" cy="5342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3" name=""/>
          <p:cNvCxnSpPr>
            <a:stCxn id="509" idx="3"/>
            <a:endCxn id="516" idx="0"/>
          </p:cNvCxnSpPr>
          <p:nvPr/>
        </p:nvCxnSpPr>
        <p:spPr>
          <a:xfrm>
            <a:off x="4724280" y="2971800"/>
            <a:ext cx="115200" cy="5342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4" name=""/>
          <p:cNvCxnSpPr>
            <a:stCxn id="515" idx="1"/>
            <a:endCxn id="517" idx="0"/>
          </p:cNvCxnSpPr>
          <p:nvPr/>
        </p:nvCxnSpPr>
        <p:spPr>
          <a:xfrm flipV="1" rot="10800000">
            <a:off x="2704320" y="3885840"/>
            <a:ext cx="115200" cy="5342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5" name=""/>
          <p:cNvCxnSpPr>
            <a:stCxn id="515" idx="3"/>
            <a:endCxn id="518" idx="0"/>
          </p:cNvCxnSpPr>
          <p:nvPr/>
        </p:nvCxnSpPr>
        <p:spPr>
          <a:xfrm>
            <a:off x="3962160" y="3886200"/>
            <a:ext cx="114840" cy="5342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6" name=""/>
          <p:cNvCxnSpPr>
            <a:stCxn id="518" idx="2"/>
            <a:endCxn id="519" idx="0"/>
          </p:cNvCxnSpPr>
          <p:nvPr/>
        </p:nvCxnSpPr>
        <p:spPr>
          <a:xfrm>
            <a:off x="4076280" y="51814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68E5A-8C7B-4E3A-AE3F-F465FA0EC6DC}" type="slidenum">
              <a:t>3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335343-86BE-4967-B5F4-5F0A4F02511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27" name=""/>
          <p:cNvCxnSpPr>
            <a:stCxn id="528" idx="3"/>
            <a:endCxn id="529" idx="2"/>
          </p:cNvCxnSpPr>
          <p:nvPr/>
        </p:nvCxnSpPr>
        <p:spPr>
          <a:xfrm>
            <a:off x="6325920" y="2928600"/>
            <a:ext cx="592920" cy="254520"/>
          </a:xfrm>
          <a:prstGeom prst="curvedConnector5">
            <a:avLst>
              <a:gd name="adj1" fmla="val 17132"/>
              <a:gd name="adj2" fmla="val 94900"/>
              <a:gd name="adj3" fmla="val 17132"/>
            </a:avLst>
          </a:prstGeom>
          <a:ln w="9360">
            <a:solidFill>
              <a:srgbClr val="000000"/>
            </a:solidFill>
            <a:prstDash val="lgDash"/>
            <a:miter/>
          </a:ln>
        </p:spPr>
      </p:cxnSp>
      <p:cxnSp>
        <p:nvCxnSpPr>
          <p:cNvPr id="530" name=""/>
          <p:cNvCxnSpPr>
            <a:stCxn id="528" idx="3"/>
            <a:endCxn id="531" idx="2"/>
          </p:cNvCxnSpPr>
          <p:nvPr/>
        </p:nvCxnSpPr>
        <p:spPr>
          <a:xfrm>
            <a:off x="6326280" y="2928600"/>
            <a:ext cx="1529280" cy="254520"/>
          </a:xfrm>
          <a:prstGeom prst="curvedConnector5">
            <a:avLst>
              <a:gd name="adj1" fmla="val 37273"/>
              <a:gd name="adj2" fmla="val 94900"/>
              <a:gd name="adj3" fmla="val 37273"/>
            </a:avLst>
          </a:prstGeom>
          <a:ln w="9360">
            <a:solidFill>
              <a:srgbClr val="000000"/>
            </a:solidFill>
            <a:prstDash val="lgDash"/>
            <a:miter/>
          </a:ln>
        </p:spPr>
      </p:cxnSp>
      <p:sp>
        <p:nvSpPr>
          <p:cNvPr id="532" name=""/>
          <p:cNvSpPr/>
          <p:nvPr/>
        </p:nvSpPr>
        <p:spPr>
          <a:xfrm>
            <a:off x="5551560" y="2057400"/>
            <a:ext cx="774720" cy="5126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p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5551560" y="2670120"/>
            <a:ext cx="774720" cy="5158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iscre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5035680" y="3287880"/>
            <a:ext cx="772920" cy="5108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blBuff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6014880" y="3287880"/>
            <a:ext cx="771840" cy="5108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rid2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4572000" y="3900600"/>
            <a:ext cx="773280" cy="515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5500800" y="3900600"/>
            <a:ext cx="771480" cy="515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5500800" y="4516560"/>
            <a:ext cx="771480" cy="5126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6531120" y="2670120"/>
            <a:ext cx="772920" cy="5126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7467480" y="2670120"/>
            <a:ext cx="773280" cy="5126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4495680" y="2670120"/>
            <a:ext cx="774720" cy="5126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9" name=""/>
          <p:cNvCxnSpPr>
            <a:stCxn id="532" idx="2"/>
            <a:endCxn id="528" idx="0"/>
          </p:cNvCxnSpPr>
          <p:nvPr/>
        </p:nvCxnSpPr>
        <p:spPr>
          <a:xfrm flipV="1" rot="10800000">
            <a:off x="5936400" y="2569680"/>
            <a:ext cx="1080" cy="1008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40" name=""/>
          <p:cNvCxnSpPr>
            <a:stCxn id="528" idx="1"/>
            <a:endCxn id="533" idx="0"/>
          </p:cNvCxnSpPr>
          <p:nvPr/>
        </p:nvCxnSpPr>
        <p:spPr>
          <a:xfrm flipV="1" rot="10800000">
            <a:off x="5422320" y="2929320"/>
            <a:ext cx="129240" cy="3582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41" name=""/>
          <p:cNvCxnSpPr>
            <a:stCxn id="528" idx="3"/>
            <a:endCxn id="534" idx="0"/>
          </p:cNvCxnSpPr>
          <p:nvPr/>
        </p:nvCxnSpPr>
        <p:spPr>
          <a:xfrm>
            <a:off x="6325920" y="2930040"/>
            <a:ext cx="75240" cy="3582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42" name=""/>
          <p:cNvCxnSpPr>
            <a:stCxn id="533" idx="1"/>
            <a:endCxn id="535" idx="0"/>
          </p:cNvCxnSpPr>
          <p:nvPr/>
        </p:nvCxnSpPr>
        <p:spPr>
          <a:xfrm flipV="1" rot="10800000">
            <a:off x="4957200" y="3543120"/>
            <a:ext cx="78480" cy="3578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43" name=""/>
          <p:cNvCxnSpPr>
            <a:stCxn id="533" idx="3"/>
            <a:endCxn id="536" idx="0"/>
          </p:cNvCxnSpPr>
          <p:nvPr/>
        </p:nvCxnSpPr>
        <p:spPr>
          <a:xfrm>
            <a:off x="5808600" y="3543480"/>
            <a:ext cx="78480" cy="3578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44" name=""/>
          <p:cNvCxnSpPr>
            <a:stCxn id="536" idx="2"/>
            <a:endCxn id="537" idx="0"/>
          </p:cNvCxnSpPr>
          <p:nvPr/>
        </p:nvCxnSpPr>
        <p:spPr>
          <a:xfrm>
            <a:off x="5886000" y="4416480"/>
            <a:ext cx="1080" cy="100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basic 2d clas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crete2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ides basic 2d lattice fun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bclas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id2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esn’t allow you to overwrite memb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blBuffer2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rites go to a buff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n updates all at o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AD13B-591F-471F-8CCC-C706EB5FA0B2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4F65CD-22E9-4EC9-993D-978E071BB24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these classes d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1752480"/>
            <a:ext cx="1490400" cy="10321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v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62120" y="4038480"/>
            <a:ext cx="1523880" cy="10573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62120" y="2895480"/>
            <a:ext cx="1523880" cy="10540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62120" y="5194440"/>
            <a:ext cx="1523880" cy="10540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286000" y="1676520"/>
            <a:ext cx="2133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hedules, ActivityGroups  and Swar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362320" y="3962520"/>
            <a:ext cx="2057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bing object’s state and behavi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362320" y="2819520"/>
            <a:ext cx="2057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number generators and distrib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286000" y="5105520"/>
            <a:ext cx="220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ab bag of various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495680" y="1739880"/>
            <a:ext cx="1490760" cy="10317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l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495680" y="4025880"/>
            <a:ext cx="1524240" cy="10573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kobj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495680" y="2882880"/>
            <a:ext cx="1524240" cy="10540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495680" y="5181480"/>
            <a:ext cx="1524240" cy="1054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095880" y="1676520"/>
            <a:ext cx="2362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rays, Lists and ordered Lists of obje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72200" y="3962520"/>
            <a:ext cx="220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aphical interface obje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172200" y="2819520"/>
            <a:ext cx="2286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s information for 2D lattice or gri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095880" y="5105520"/>
            <a:ext cx="2286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asier interface to graphs, calculate stat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941CD-6250-46A1-83EB-2DFF3F2C995F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79DE0D-0AA2-46EA-8FB2-40CD021E787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 basic Discrete2d synta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tSizeX: i Y: j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the world siz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etSizeX, getSiz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t the dimensions of the lat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illWithValue: val, fillWithObject: ob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same value or object at each si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tDiscrete2d: o  toFile: file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ds a PGM formatted file and fills lattice with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pyDiscrete2d: a toDiscrete2d: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lls lattice b with values from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11FA5-525E-4449-AB40-7AF89236BAE7}" type="slidenum">
              <a:t>40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B72CE3-78E4-45F8-8A97-1985AE853D9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e basic Discrete2d synta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434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etObjectAtX: Y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object at x,y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etValueAtX: Y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value at x,y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4190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tObject:o atX: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 obj at x,y and overwrite present obj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tValue: v atX: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 val v at x,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826FD-D0DF-408B-B394-1F575283207F}" type="slidenum">
              <a:t>41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26B597-1647-4D1C-9775-C22F07B7ABE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 classes in Simtoo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Loader / Sa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ads/Saves instance variable values from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Sel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s N members from collec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S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ickSort for coll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Fil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stitute for opening outfiles C sty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ns file and understand basic operations, getString, getInt, next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8A2DA-BE8F-40A9-AE81-46E9ED5A326C}" type="slidenum">
              <a:t>42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6DBACB-CB5C-4F6B-A47A-28B400A59F2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File and InFi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sic idea that InFile opens file and “gets” strings and OutFile opens file and “puts” s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can deal with any var type (only String and Int show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addition methods to insert delimiter (“tab”), skip line, go to next line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me methods in InFi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(int) getWord: (char *) aWor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(int) getInt: (int *) anIn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(int) skipLin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..and OutFi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putString: (char *) aStr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putInt: (int) anI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putTab: (char) aCha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putNewLin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2E9A8-6020-44D5-B74A-EAF4311599CA}" type="slidenum">
              <a:t>4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3D008C-FF0E-4988-8BCF-4C32CCCB84F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jor TkObjC clas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oomRas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izeable ra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p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sic display of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sto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play of hist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lor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p between integer values and col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1" name=""/>
          <p:cNvCxnSpPr>
            <a:stCxn id="562" idx="1"/>
            <a:endCxn id="563" idx="0"/>
          </p:cNvCxnSpPr>
          <p:nvPr/>
        </p:nvCxnSpPr>
        <p:spPr>
          <a:xfrm flipV="1" rot="10800000">
            <a:off x="4870440" y="2829600"/>
            <a:ext cx="621000" cy="4784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4" name=""/>
          <p:cNvCxnSpPr>
            <a:stCxn id="562" idx="3"/>
            <a:endCxn id="565" idx="0"/>
          </p:cNvCxnSpPr>
          <p:nvPr/>
        </p:nvCxnSpPr>
        <p:spPr>
          <a:xfrm>
            <a:off x="6543720" y="2830320"/>
            <a:ext cx="622800" cy="4784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6" name=""/>
          <p:cNvCxnSpPr>
            <a:stCxn id="562" idx="2"/>
            <a:endCxn id="567" idx="0"/>
          </p:cNvCxnSpPr>
          <p:nvPr/>
        </p:nvCxnSpPr>
        <p:spPr>
          <a:xfrm>
            <a:off x="6017760" y="3165120"/>
            <a:ext cx="1080" cy="143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7" name=""/>
          <p:cNvSpPr/>
          <p:nvPr/>
        </p:nvSpPr>
        <p:spPr>
          <a:xfrm>
            <a:off x="5491080" y="3308400"/>
            <a:ext cx="1052640" cy="6714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as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4343400" y="3308400"/>
            <a:ext cx="1052640" cy="6714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rap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6640560" y="3308400"/>
            <a:ext cx="1050840" cy="673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stogr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5491080" y="2495520"/>
            <a:ext cx="1052640" cy="6699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dg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5491080" y="4122720"/>
            <a:ext cx="1052640" cy="6699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ZoomRas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9" name=""/>
          <p:cNvCxnSpPr/>
          <p:nvPr/>
        </p:nvCxnSpPr>
        <p:spPr>
          <a:xfrm>
            <a:off x="5638320" y="3123720"/>
            <a:ext cx="1080" cy="143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0" name=""/>
          <p:cNvSpPr/>
          <p:nvPr/>
        </p:nvSpPr>
        <p:spPr>
          <a:xfrm>
            <a:off x="7516800" y="2489040"/>
            <a:ext cx="1050840" cy="673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orm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52C99-CEA0-4D5F-B3B7-D4973394FB3E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D82D4B-869D-4DDF-90B5-26AAA425149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lle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flat list of objects with random acces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eyedColl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Key  is independent obje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Key is the member itself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r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lection with fixed siz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172200" y="2057400"/>
            <a:ext cx="1143000" cy="76212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l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648320" y="3124080"/>
            <a:ext cx="1143000" cy="76212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172200" y="3124080"/>
            <a:ext cx="1143000" cy="76212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y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l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620120" y="3124080"/>
            <a:ext cx="1143000" cy="76212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r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486400" y="4419720"/>
            <a:ext cx="1143000" cy="76176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934320" y="4419720"/>
            <a:ext cx="1143000" cy="76176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7" name=""/>
          <p:cNvCxnSpPr>
            <a:stCxn id="91" idx="1"/>
            <a:endCxn id="92" idx="0"/>
          </p:cNvCxnSpPr>
          <p:nvPr/>
        </p:nvCxnSpPr>
        <p:spPr>
          <a:xfrm flipV="1" rot="10800000">
            <a:off x="5218920" y="2437200"/>
            <a:ext cx="9532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8" name=""/>
          <p:cNvCxnSpPr>
            <a:stCxn id="91" idx="3"/>
            <a:endCxn id="94" idx="0"/>
          </p:cNvCxnSpPr>
          <p:nvPr/>
        </p:nvCxnSpPr>
        <p:spPr>
          <a:xfrm>
            <a:off x="7315200" y="2437920"/>
            <a:ext cx="87696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9" name=""/>
          <p:cNvCxnSpPr>
            <a:stCxn id="91" idx="2"/>
            <a:endCxn id="93" idx="0"/>
          </p:cNvCxnSpPr>
          <p:nvPr/>
        </p:nvCxnSpPr>
        <p:spPr>
          <a:xfrm>
            <a:off x="6743520" y="2819520"/>
            <a:ext cx="1080" cy="30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93" idx="2"/>
            <a:endCxn id="95" idx="0"/>
          </p:cNvCxnSpPr>
          <p:nvPr/>
        </p:nvCxnSpPr>
        <p:spPr>
          <a:xfrm rot="5400000">
            <a:off x="6133320" y="3809880"/>
            <a:ext cx="534240" cy="686520"/>
          </a:xfrm>
          <a:prstGeom prst="bentConnector3">
            <a:avLst>
              <a:gd name="adj1" fmla="val 4996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93" idx="2"/>
            <a:endCxn id="96" idx="0"/>
          </p:cNvCxnSpPr>
          <p:nvPr/>
        </p:nvCxnSpPr>
        <p:spPr>
          <a:xfrm flipH="1" rot="16200000">
            <a:off x="6858000" y="3771720"/>
            <a:ext cx="534240" cy="762480"/>
          </a:xfrm>
          <a:prstGeom prst="bentConnector3">
            <a:avLst>
              <a:gd name="adj1" fmla="val 4996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4A317-C139-4C6A-BDD2-95CF67D6017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88120F-5A1D-457C-A88D-4195705A371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 Collection synta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etCou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ives number of memb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tOffset: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rieves member at location 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tOffset:i put: ob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serts obj at location 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ddFirst: o addLast: 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ds o at start/end of l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etFirst,getL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s first/last me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48320" y="182880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ntains: 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s 1 if o is me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move: 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moves object 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move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moves a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rEach:M(messag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ds message to all memb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moveFirst/L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moves and returns first/last me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C0447-60FC-4ED8-906C-C605A1485D96}" type="slidenum">
              <a:t>6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3337C7-8D31-4AF3-9526-ED3AC48E991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419720" y="3200400"/>
            <a:ext cx="4267080" cy="198108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cessing Collections with Inde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y collection can generate an index of itsel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index behaves as an object, and understands messages such a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v,n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Next: o,findPrev: 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ing index to loop over all member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dex=[list begin: zone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hile(o=[index next]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value=[o getValue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index drop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8242F-EFBC-4DF2-AD32-8449DCBCDD6A}" type="slidenum">
              <a:t>7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007EE1-BD4F-44D7-AE60-358761A9D59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4419720" y="2819520"/>
            <a:ext cx="4267080" cy="304776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ical use of Lis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ypical use of a List instance is to keep track of agent populat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t create time Model initializes each agent and puts him on agentLis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e agentList is then accessed by Schedule, GUI objects and so on..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(i=0;i&lt;numAgents;i++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=[Agent create: zone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a setVar1: var1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a setVar2: var2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a setVarN: varN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agentList addLast: a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D0FAE-A8C3-4095-9A27-DEDF02E04F42}" type="slidenum">
              <a:t>8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6DAD90-4FD3-477C-9FBA-F9226ABD8AC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KeyedColle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KeyedCollection if you want a List that is continously s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either have seperate key objects for each member (Map) or treat the members as keys (Se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ant: You must provide the key object yoursel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A key object knows how to respond to a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compare: obj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method call. It then retrieves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the value in obj and respond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with {-1,0,1} depending o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if it is &lt;, equal to, &gt; than ob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B65DE-EB24-4B5D-B517-4571B12FF71A}" type="slidenum">
              <a:t>9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B7C184-7B7B-47DC-9F9D-AB317BD13C7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02T02:00:03Z</dcterms:created>
  <dc:creator>Benedikt Stefansson</dc:creator>
  <dc:description/>
  <dc:language>en-US</dc:language>
  <cp:lastModifiedBy>Office</cp:lastModifiedBy>
  <cp:lastPrinted>1998-03-19T09:02:27Z</cp:lastPrinted>
  <dcterms:modified xsi:type="dcterms:W3CDTF">1999-03-25T09:39:46Z</dcterms:modified>
  <cp:revision>18</cp:revision>
  <dc:subject/>
  <dc:title>Agent Based Modeling in Swarm Lecture 8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6777215</vt:r8>
  </property>
  <property fmtid="{D5CDD505-2E9C-101B-9397-08002B2CF9AE}" pid="3" name="ButtonType">
    <vt:r8>4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cce.sscnet.ucla.edu/swarmcourse</vt:lpwstr>
  </property>
  <property fmtid="{D5CDD505-2E9C-101B-9397-08002B2CF9AE}" pid="9" name="LinkColor">
    <vt:r8>16711782</vt:r8>
  </property>
  <property fmtid="{D5CDD505-2E9C-101B-9397-08002B2CF9AE}" pid="10" name="MailAddress">
    <vt:lpwstr>benedikt@ucla.edu</vt:lpwstr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C:\Documents\Benedikt\CourseMaterial\Swarmfest 1998</vt:lpwstr>
  </property>
  <property fmtid="{D5CDD505-2E9C-101B-9397-08002B2CF9AE}" pid="14" name="ScreenSize">
    <vt:r8>1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0</vt:bool>
  </property>
  <property fmtid="{D5CDD505-2E9C-101B-9397-08002B2CF9AE}" pid="21" name="VisitedColor">
    <vt:r8>10040268</vt:r8>
  </property>
</Properties>
</file>