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5621-FB81-4068-9A6C-80EED1A18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247C-603A-466F-A75F-72659427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8F9C-B080-4F90-BE42-6F44A92C3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2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52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4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2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52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409B-2380-4D28-BB5B-E3B9C9A0D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7CF8-D470-454B-937E-93F0E4D7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1801-B2FA-4633-A76C-608C439B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5BAE-3C31-41EE-AD69-2F4C6F17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95BF-7186-4CD8-BAB4-DACEBDB2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D04A-980F-4C26-BDE6-88729BD4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725A-3648-45AB-8432-F29D8F7A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12C0-A2F7-455B-8CB3-259341D3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C59E-D534-45D0-9C70-36177541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8B44-A1F1-4B35-8A47-A1984C3567B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F1EC-BEC1-4886-B646-AE1C6B72F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: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vs.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WATCHC1" descr=""/>
          <p:cNvPicPr/>
          <p:nvPr/>
        </p:nvPicPr>
        <p:blipFill>
          <a:blip r:embed="rId1"/>
          <a:stretch/>
        </p:blipFill>
        <p:spPr>
          <a:xfrm>
            <a:off x="3005280" y="1943280"/>
            <a:ext cx="3651120" cy="2800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419720" y="4813200"/>
            <a:ext cx="4152960" cy="1191240"/>
          </a:xfrm>
          <a:prstGeom prst="borderCallout1">
            <a:avLst>
              <a:gd name="adj1" fmla="val 18750"/>
              <a:gd name="adj2" fmla="val -8333"/>
              <a:gd name="adj3" fmla="val -104740"/>
              <a:gd name="adj4" fmla="val -595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only has to be familiar with the interface of an object, not it’s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6720" y="5052960"/>
            <a:ext cx="3029040" cy="825480"/>
          </a:xfrm>
          <a:prstGeom prst="borderCallout1">
            <a:avLst>
              <a:gd name="adj1" fmla="val 18750"/>
              <a:gd name="adj2" fmla="val -8333"/>
              <a:gd name="adj3" fmla="val -216171"/>
              <a:gd name="adj4" fmla="val 10916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hide their functions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9F66-7AF6-4394-91E6-4DE79BF5A34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F76841-9931-44AD-BB91-7A7479F3ED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finition of an object and the object fa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an object inherits behavior and variables from (recurs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inherits behavior and variables from a 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bject (instance of a class) that has been created and exists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variable available to all functions in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unction. Can be called by sending message to an object of this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69B3-8174-43FB-9BA5-4A9E891B409B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6A0EE2-A6EA-4AAC-876C-66173C52E7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746600" y="2035080"/>
            <a:ext cx="938160" cy="95724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principles of 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hide their functions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data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ance variabl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ethod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s all variables of it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instances of same class, sharing behavior but not state or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08680" y="2035080"/>
            <a:ext cx="938160" cy="9572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99000" y="34765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00560" y="5576760"/>
            <a:ext cx="563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371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8644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7212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4200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373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86720" y="5283360"/>
            <a:ext cx="54108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40400" y="4253040"/>
            <a:ext cx="541440" cy="541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9360" y="42703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62" idx="4"/>
            <a:endCxn id="171" idx="0"/>
          </p:cNvCxnSpPr>
          <p:nvPr/>
        </p:nvCxnSpPr>
        <p:spPr>
          <a:xfrm rot="5400000">
            <a:off x="5238720" y="373896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62" idx="4"/>
            <a:endCxn id="170" idx="0"/>
          </p:cNvCxnSpPr>
          <p:nvPr/>
        </p:nvCxnSpPr>
        <p:spPr>
          <a:xfrm flipH="1" rot="16200000">
            <a:off x="6122520" y="3664440"/>
            <a:ext cx="235800" cy="94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6270840" y="352728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09640" y="440388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1988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85340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89840" y="2035080"/>
            <a:ext cx="938160" cy="9572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6760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30840" y="252720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8443-87B3-4D4C-BF12-F984D11CEB4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133C40-47ED-4306-ADEA-B0CC895E89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event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01760" y="2771640"/>
            <a:ext cx="990720" cy="2514600"/>
          </a:xfrm>
          <a:custGeom>
            <a:avLst/>
            <a:gdLst>
              <a:gd name="textAreaLeft" fmla="*/ 132480 w 990720"/>
              <a:gd name="textAreaRight" fmla="*/ 858240 w 99072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0899600">
            <a:off x="4077720" y="2585160"/>
            <a:ext cx="990360" cy="2590920"/>
          </a:xfrm>
          <a:custGeom>
            <a:avLst/>
            <a:gdLst>
              <a:gd name="textAreaLeft" fmla="*/ 132480 w 990360"/>
              <a:gd name="textAreaRight" fmla="*/ 857880 w 990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190512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68360" y="406224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44840" y="24210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0899600">
            <a:off x="3433680" y="2362320"/>
            <a:ext cx="247680" cy="64584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5840"/>
              <a:gd name="textAreaBottom" fmla="*/ 468360 h 64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25640" y="2057400"/>
            <a:ext cx="398520" cy="399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89280" y="2666880"/>
            <a:ext cx="398520" cy="400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5594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0899600">
            <a:off x="3294000" y="4501800"/>
            <a:ext cx="247680" cy="64620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6200"/>
              <a:gd name="textAreaBottom" fmla="*/ 468720 h 6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35280" y="421488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35280" y="482436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276880" y="186696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proceeds in discrete time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between agents or procedures within simulation may have own even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F4BB-4447-4D98-BA11-6144869A2EF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56D565-EF2C-48C8-9118-9873CA8AEC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tion in procedural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arameter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_ag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-i-do-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3362400"/>
            <a:ext cx="2819160" cy="1557000"/>
          </a:xfrm>
          <a:prstGeom prst="borderCallout1">
            <a:avLst>
              <a:gd name="adj1" fmla="val 18750"/>
              <a:gd name="adj2" fmla="val -8333"/>
              <a:gd name="adj3" fmla="val 30972"/>
              <a:gd name="adj4" fmla="val -1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must provide data structure to save agent’s state and implement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7080" y="2084400"/>
            <a:ext cx="4419720" cy="825480"/>
          </a:xfrm>
          <a:prstGeom prst="borderCallout1">
            <a:avLst>
              <a:gd name="adj1" fmla="val 18750"/>
              <a:gd name="adj2" fmla="val -8333"/>
              <a:gd name="adj3" fmla="val 61504"/>
              <a:gd name="adj4" fmla="val -4428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set’s up data structures and support fo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5105520"/>
            <a:ext cx="4445280" cy="825480"/>
          </a:xfrm>
          <a:prstGeom prst="borderCallout1">
            <a:avLst>
              <a:gd name="adj1" fmla="val 18750"/>
              <a:gd name="adj2" fmla="val -8333"/>
              <a:gd name="adj3" fmla="val -21444"/>
              <a:gd name="adj4" fmla="val -1428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of output often left to the progra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295C-BA85-4FE3-97C3-0D783D13A0D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D04850-51B5-4CC7-9491-FB4144C6CA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00120" y="2822400"/>
            <a:ext cx="6597720" cy="326412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(Swarm) OOP 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93760" y="361800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9080" y="2521080"/>
            <a:ext cx="1322640" cy="132228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57760" y="299088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27520" y="3794040"/>
            <a:ext cx="1180800" cy="26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16520" y="320040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218800">
            <a:off x="2655360" y="4475160"/>
            <a:ext cx="118116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56080" y="4549680"/>
            <a:ext cx="934920" cy="9352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7536200">
            <a:off x="5159880" y="4229640"/>
            <a:ext cx="118080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21200" y="490068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56360" y="4498920"/>
            <a:ext cx="619200" cy="7063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50000" y="3592440"/>
            <a:ext cx="619200" cy="7066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/>
          <p:nvPr/>
        </p:nvCxnSpPr>
        <p:spPr>
          <a:xfrm>
            <a:off x="2313000" y="3076200"/>
            <a:ext cx="1775520" cy="48636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cc99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652320" y="4686480"/>
            <a:ext cx="4530960" cy="1191240"/>
          </a:xfrm>
          <a:prstGeom prst="borderCallout1">
            <a:avLst>
              <a:gd name="adj1" fmla="val 18750"/>
              <a:gd name="adj2" fmla="val -8333"/>
              <a:gd name="adj3" fmla="val -116250"/>
              <a:gd name="adj4" fmla="val 123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gent saves his own behavior and state and acts when called upon by scheduler or other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06720" y="1854360"/>
            <a:ext cx="6243480" cy="825480"/>
          </a:xfrm>
          <a:prstGeom prst="borderCallout1">
            <a:avLst>
              <a:gd name="adj1" fmla="val 18750"/>
              <a:gd name="adj2" fmla="val -8333"/>
              <a:gd name="adj3" fmla="val 123625"/>
              <a:gd name="adj4" fmla="val -687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vent loop is now embedded in an object that sends messages to agents an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4062000">
            <a:off x="1023480" y="2897280"/>
            <a:ext cx="730440" cy="129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9147600">
            <a:off x="1387080" y="2989080"/>
            <a:ext cx="728640" cy="9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7E7B-A916-4C2A-B895-06A33880E25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786135-AAC4-40E0-99C8-90194CE431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warm is an object that imp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sic Swarm simulation consis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89640" y="4529160"/>
            <a:ext cx="3809880" cy="129528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69000" y="492912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68880" y="4718160"/>
            <a:ext cx="520560" cy="52056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560" y="506556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4716360"/>
            <a:ext cx="52092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89600" y="500364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21400" y="485928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38840" y="469440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55520" y="423396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89320" y="5821200"/>
            <a:ext cx="234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nimat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67400" y="2608200"/>
            <a:ext cx="3809880" cy="129564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638760" y="2789280"/>
            <a:ext cx="622440" cy="888840"/>
            <a:chOff x="6638760" y="2789280"/>
            <a:chExt cx="622440" cy="888840"/>
          </a:xfrm>
        </p:grpSpPr>
        <p:sp>
          <p:nvSpPr>
            <p:cNvPr id="232" name=""/>
            <p:cNvSpPr/>
            <p:nvPr/>
          </p:nvSpPr>
          <p:spPr>
            <a:xfrm>
              <a:off x="6638760" y="2789280"/>
              <a:ext cx="622440" cy="888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88080" y="288900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88080" y="329076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88080" y="308916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88080" y="349092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5295960" y="2911320"/>
            <a:ext cx="901800" cy="74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03960" y="3030480"/>
            <a:ext cx="660240" cy="54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48240" y="2746440"/>
            <a:ext cx="901800" cy="749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56240" y="2865600"/>
            <a:ext cx="660240" cy="54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69720" y="220680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4040" y="21304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91400" y="2889360"/>
            <a:ext cx="622080" cy="888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40360" y="2989440"/>
            <a:ext cx="524160" cy="137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40360" y="339084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40360" y="3189240"/>
            <a:ext cx="524160" cy="138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40360" y="359100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64360" y="2011320"/>
            <a:ext cx="352440" cy="3524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8" idx="4"/>
            <a:endCxn id="230" idx="0"/>
          </p:cNvCxnSpPr>
          <p:nvPr/>
        </p:nvCxnSpPr>
        <p:spPr>
          <a:xfrm flipH="1" rot="16200000">
            <a:off x="6384240" y="2419200"/>
            <a:ext cx="244800" cy="13248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30" idx="4"/>
            <a:endCxn id="220" idx="0"/>
          </p:cNvCxnSpPr>
          <p:nvPr/>
        </p:nvCxnSpPr>
        <p:spPr>
          <a:xfrm rot="5400000">
            <a:off x="6220080" y="4177440"/>
            <a:ext cx="62604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28" idx="1"/>
            <a:endCxn id="221" idx="3"/>
          </p:cNvCxnSpPr>
          <p:nvPr/>
        </p:nvCxnSpPr>
        <p:spPr>
          <a:xfrm flipH="1" flipV="1" rot="10800000">
            <a:off x="4655880" y="4461480"/>
            <a:ext cx="289440" cy="911880"/>
          </a:xfrm>
          <a:prstGeom prst="curvedConnector5">
            <a:avLst>
              <a:gd name="adj1" fmla="val -79078"/>
              <a:gd name="adj2" fmla="val 66706"/>
              <a:gd name="adj3" fmla="val -790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29" idx="3"/>
            <a:endCxn id="227" idx="3"/>
          </p:cNvCxnSpPr>
          <p:nvPr/>
        </p:nvCxnSpPr>
        <p:spPr>
          <a:xfrm flipH="1" flipV="1">
            <a:off x="7427520" y="5022000"/>
            <a:ext cx="905760" cy="1027800"/>
          </a:xfrm>
          <a:prstGeom prst="curvedConnector5">
            <a:avLst>
              <a:gd name="adj1" fmla="val -25248"/>
              <a:gd name="adj2" fmla="val 50000"/>
              <a:gd name="adj3" fmla="val -2524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41" idx="1"/>
            <a:endCxn id="237" idx="1"/>
          </p:cNvCxnSpPr>
          <p:nvPr/>
        </p:nvCxnSpPr>
        <p:spPr>
          <a:xfrm flipH="1" flipV="1" rot="10800000">
            <a:off x="4871520" y="2434320"/>
            <a:ext cx="424800" cy="851400"/>
          </a:xfrm>
          <a:prstGeom prst="curvedConnector5">
            <a:avLst>
              <a:gd name="adj1" fmla="val -53859"/>
              <a:gd name="adj2" fmla="val 50000"/>
              <a:gd name="adj3" fmla="val -538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42" idx="3"/>
            <a:endCxn id="243" idx="3"/>
          </p:cNvCxnSpPr>
          <p:nvPr/>
        </p:nvCxnSpPr>
        <p:spPr>
          <a:xfrm flipH="1">
            <a:off x="7412760" y="2358720"/>
            <a:ext cx="996120" cy="975240"/>
          </a:xfrm>
          <a:prstGeom prst="curvedConnector5">
            <a:avLst>
              <a:gd name="adj1" fmla="val -22957"/>
              <a:gd name="adj2" fmla="val 50000"/>
              <a:gd name="adj3" fmla="val -2295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7086240" y="3733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12560" y="5616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FFF2-7C3D-40A2-8C91-D81071C0CF1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950CC5-C6AE-4102-BFFB-259ECFF946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warm as a virtual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37240" y="2155680"/>
            <a:ext cx="1567080" cy="1154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40200" y="4437000"/>
            <a:ext cx="3251160" cy="771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40200" y="3481560"/>
            <a:ext cx="3251160" cy="771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36960" y="2155680"/>
            <a:ext cx="1568520" cy="1154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68080" y="4632480"/>
            <a:ext cx="279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81280" y="3689280"/>
            <a:ext cx="216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3040" y="2857680"/>
            <a:ext cx="72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74560" y="2827440"/>
            <a:ext cx="106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37240" y="2071800"/>
            <a:ext cx="3481200" cy="2243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10440" y="2571840"/>
            <a:ext cx="4093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48240" y="2906640"/>
            <a:ext cx="433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10120" y="2222640"/>
            <a:ext cx="917640" cy="652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16680" y="2274840"/>
            <a:ext cx="70452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6520" y="2398680"/>
            <a:ext cx="599760" cy="335160"/>
          </a:xfrm>
          <a:custGeom>
            <a:avLst/>
            <a:gdLst/>
            <a:ahLst/>
            <a:rect l="l" t="t" r="r" b="b"/>
            <a:pathLst>
              <a:path w="378" h="211">
                <a:moveTo>
                  <a:pt x="0" y="211"/>
                </a:moveTo>
                <a:cubicBezTo>
                  <a:pt x="22" y="179"/>
                  <a:pt x="28" y="149"/>
                  <a:pt x="56" y="122"/>
                </a:cubicBezTo>
                <a:cubicBezTo>
                  <a:pt x="57" y="119"/>
                  <a:pt x="73" y="47"/>
                  <a:pt x="100" y="67"/>
                </a:cubicBezTo>
                <a:cubicBezTo>
                  <a:pt x="115" y="78"/>
                  <a:pt x="105" y="104"/>
                  <a:pt x="111" y="122"/>
                </a:cubicBezTo>
                <a:cubicBezTo>
                  <a:pt x="116" y="135"/>
                  <a:pt x="127" y="144"/>
                  <a:pt x="133" y="156"/>
                </a:cubicBezTo>
                <a:cubicBezTo>
                  <a:pt x="138" y="166"/>
                  <a:pt x="141" y="178"/>
                  <a:pt x="145" y="189"/>
                </a:cubicBezTo>
                <a:cubicBezTo>
                  <a:pt x="202" y="151"/>
                  <a:pt x="211" y="89"/>
                  <a:pt x="278" y="67"/>
                </a:cubicBezTo>
                <a:cubicBezTo>
                  <a:pt x="295" y="13"/>
                  <a:pt x="307" y="36"/>
                  <a:pt x="345" y="0"/>
                </a:cubicBezTo>
                <a:cubicBezTo>
                  <a:pt x="356" y="4"/>
                  <a:pt x="378" y="11"/>
                  <a:pt x="378" y="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08680" y="254016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491240" y="2252520"/>
            <a:ext cx="246240" cy="246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259884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4" idx="1"/>
            <a:endCxn id="272" idx="5"/>
          </p:cNvCxnSpPr>
          <p:nvPr/>
        </p:nvCxnSpPr>
        <p:spPr>
          <a:xfrm flipH="1">
            <a:off x="7017480" y="2635200"/>
            <a:ext cx="2581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2" idx="7"/>
            <a:endCxn id="273" idx="2"/>
          </p:cNvCxnSpPr>
          <p:nvPr/>
        </p:nvCxnSpPr>
        <p:spPr>
          <a:xfrm flipH="1" flipV="1" rot="5400000">
            <a:off x="7154280" y="2239560"/>
            <a:ext cx="200880" cy="473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74" idx="6"/>
            <a:endCxn id="273" idx="5"/>
          </p:cNvCxnSpPr>
          <p:nvPr/>
        </p:nvCxnSpPr>
        <p:spPr>
          <a:xfrm flipV="1">
            <a:off x="7485120" y="2461680"/>
            <a:ext cx="216720" cy="2613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’s CPU executes program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kernel is virtual CPU running model and GUI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Swarms merge activity schedules into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34080" y="5261040"/>
            <a:ext cx="3251160" cy="7714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46200" y="538488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9904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7341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466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9120" y="500076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76432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4883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6578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669000" y="500004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76DC-A425-48E9-BA45-8CB9D613910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998F2B-3584-42FA-A3D7-4C5158A7D3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ctivity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bstractions that allow programmer to treat event scheduling in the artificial world as objects, separate from elements of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some useful shorthand to group actions and sort according to the desired order of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schedules are objects, all agents in simulation can communicate with them, to schedule future events or cause actions to be dropped based on specified contin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371B-804F-49F6-BF35-B369139F9C9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4D87F9-F9BF-4E97-8C92-D37C069E13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7818480" y="5211360"/>
            <a:ext cx="1440" cy="5144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ctivity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rdered set of “simultaneous” 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set of events or groups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VM executing sched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62400" y="2152800"/>
            <a:ext cx="1714680" cy="971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23600" y="22129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23600" y="26510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91200" y="2152800"/>
            <a:ext cx="1714680" cy="476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33320" y="21938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3800" y="4324320"/>
            <a:ext cx="36198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390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8168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0564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39200" y="3333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296" idx="2"/>
            <a:endCxn id="300" idx="7"/>
          </p:cNvCxnSpPr>
          <p:nvPr/>
        </p:nvCxnSpPr>
        <p:spPr>
          <a:xfrm rot="5400000">
            <a:off x="5038920" y="3537360"/>
            <a:ext cx="1119960" cy="261360"/>
          </a:xfrm>
          <a:prstGeom prst="bentConnector3">
            <a:avLst>
              <a:gd name="adj1" fmla="val 483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6" name=""/>
          <p:cNvCxnSpPr>
            <a:stCxn id="296" idx="2"/>
            <a:endCxn id="301" idx="0"/>
          </p:cNvCxnSpPr>
          <p:nvPr/>
        </p:nvCxnSpPr>
        <p:spPr>
          <a:xfrm flipH="1" rot="16200000">
            <a:off x="5404680" y="3432600"/>
            <a:ext cx="1083240" cy="434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296" idx="2"/>
            <a:endCxn id="302" idx="0"/>
          </p:cNvCxnSpPr>
          <p:nvPr/>
        </p:nvCxnSpPr>
        <p:spPr>
          <a:xfrm flipH="1" rot="16200000">
            <a:off x="5775120" y="3061440"/>
            <a:ext cx="1083240" cy="1176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8" name=""/>
          <p:cNvCxnSpPr>
            <a:stCxn id="296" idx="2"/>
            <a:endCxn id="309" idx="0"/>
          </p:cNvCxnSpPr>
          <p:nvPr/>
        </p:nvCxnSpPr>
        <p:spPr>
          <a:xfrm flipH="1" rot="16200000">
            <a:off x="6184800" y="2651760"/>
            <a:ext cx="1083240" cy="1996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298" idx="2"/>
            <a:endCxn id="304" idx="0"/>
          </p:cNvCxnSpPr>
          <p:nvPr/>
        </p:nvCxnSpPr>
        <p:spPr>
          <a:xfrm flipH="1" rot="16200000">
            <a:off x="7203240" y="2774520"/>
            <a:ext cx="682920" cy="435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760104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62400" y="2647800"/>
            <a:ext cx="171468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96000" y="5734080"/>
            <a:ext cx="3619440" cy="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196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008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168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7700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77000" y="5124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43440" y="1981080"/>
            <a:ext cx="304560" cy="304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7640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28960" y="3467160"/>
            <a:ext cx="476280" cy="32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4762440"/>
            <a:ext cx="476280" cy="32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4FF2-0756-4897-A788-8C4504073F3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3993C9-C8E4-4966-BA2B-267B374391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and overview of Swarm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s of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 structure of simulations in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and dirty introduction to 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, resources, user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044A-62E9-4496-BC20-27BF037FC98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D4E910-A938-4A0F-8BF1-D852E93021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schedules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s of each sub Swarm are merged into the schedule of next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 all schedules are merged in the 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you to treat the model as a nested hierarchy of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67120" y="2433600"/>
            <a:ext cx="3660840" cy="1703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73480" y="29923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53200" y="3106800"/>
            <a:ext cx="307800" cy="2458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92920" y="3035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31920" y="393876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326280" y="3701880"/>
            <a:ext cx="1255680" cy="50040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46520" y="2000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53280" y="2577960"/>
            <a:ext cx="238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0" idx="2"/>
            <a:endCxn id="325" idx="2"/>
          </p:cNvCxnSpPr>
          <p:nvPr/>
        </p:nvCxnSpPr>
        <p:spPr>
          <a:xfrm rot="5400000">
            <a:off x="4755240" y="2774520"/>
            <a:ext cx="861120" cy="226440"/>
          </a:xfrm>
          <a:prstGeom prst="curvedConnector5">
            <a:avLst>
              <a:gd name="adj1" fmla="val 30991"/>
              <a:gd name="adj2" fmla="val 100636"/>
              <a:gd name="adj3" fmla="val 30991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6464160" y="2959200"/>
            <a:ext cx="208080" cy="2077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21360" y="341784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562800" y="3413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43680" y="307188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307280" y="3279600"/>
            <a:ext cx="208080" cy="19080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59200" y="4341960"/>
            <a:ext cx="3660840" cy="17031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/>
          <p:nvPr/>
        </p:nvCxnSpPr>
        <p:spPr>
          <a:xfrm flipH="1" rot="10800000">
            <a:off x="5360040" y="3513960"/>
            <a:ext cx="51480" cy="1707480"/>
          </a:xfrm>
          <a:prstGeom prst="bentConnector4">
            <a:avLst>
              <a:gd name="adj1" fmla="val -450000"/>
              <a:gd name="adj2" fmla="val 59531"/>
            </a:avLst>
          </a:prstGeom>
          <a:ln w="9360">
            <a:solidFill>
              <a:srgbClr val="b2b2b2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5262480" y="488304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513400" y="49957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0080" y="46083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52560" y="4521240"/>
            <a:ext cx="169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62800" y="497520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154560" y="51688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45240" y="54100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24680" y="517680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388280" y="504684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27C7-D7A7-4F13-BD57-C792435DFB5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AB3DC9-1F2E-4951-A742-77A73DFC047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memory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location and deallocation of memory is a necessary feature in an OO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 provides libraries for this purpose which make the process transparent to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feature: Objects are created and destroyed using a notion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dropping a memory zone can drop entire collections or sub Sw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53FA-500D-4AAB-94A0-5F5036D8487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A41F19-FB5F-4B3D-8136-855B0D89503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7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cursive structure of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92520" y="1922400"/>
            <a:ext cx="3660840" cy="170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16160" y="2568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32240" y="2562120"/>
            <a:ext cx="307800" cy="3412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17960" y="234792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95760" y="265428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19840" y="2417760"/>
            <a:ext cx="20772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21080" y="306540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86520" y="2897280"/>
            <a:ext cx="207720" cy="2077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22320" y="4013280"/>
            <a:ext cx="2502000" cy="1127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044800" y="442116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02120" y="481824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75120" y="4071960"/>
            <a:ext cx="1378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46560" y="431784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71880" y="4357800"/>
            <a:ext cx="137880" cy="1332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60680" y="464508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05240" y="4573440"/>
            <a:ext cx="2502000" cy="1162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27720" y="501660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43680" y="486396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03960" y="470052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104240" y="489600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251400" y="53560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92840" y="507060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157480" y="31575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17840" y="3157560"/>
            <a:ext cx="1620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535200" y="4551120"/>
            <a:ext cx="28911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86320" y="4721400"/>
            <a:ext cx="200628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0760" y="2392200"/>
            <a:ext cx="936360" cy="290520"/>
          </a:xfrm>
          <a:custGeom>
            <a:avLst/>
            <a:gdLst/>
            <a:ahLst/>
            <a:rect l="l" t="t" r="r" b="b"/>
            <a:pathLst>
              <a:path w="590" h="183">
                <a:moveTo>
                  <a:pt x="0" y="150"/>
                </a:moveTo>
                <a:lnTo>
                  <a:pt x="43" y="86"/>
                </a:lnTo>
                <a:lnTo>
                  <a:pt x="107" y="32"/>
                </a:lnTo>
                <a:lnTo>
                  <a:pt x="172" y="0"/>
                </a:lnTo>
                <a:lnTo>
                  <a:pt x="204" y="0"/>
                </a:lnTo>
                <a:lnTo>
                  <a:pt x="289" y="43"/>
                </a:lnTo>
                <a:lnTo>
                  <a:pt x="354" y="96"/>
                </a:lnTo>
                <a:lnTo>
                  <a:pt x="397" y="150"/>
                </a:lnTo>
                <a:lnTo>
                  <a:pt x="418" y="182"/>
                </a:lnTo>
                <a:lnTo>
                  <a:pt x="472" y="139"/>
                </a:lnTo>
                <a:lnTo>
                  <a:pt x="514" y="96"/>
                </a:lnTo>
                <a:lnTo>
                  <a:pt x="547" y="64"/>
                </a:lnTo>
                <a:lnTo>
                  <a:pt x="589" y="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98840" y="222408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18880" y="390996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37000" y="3038400"/>
            <a:ext cx="614520" cy="733680"/>
          </a:xfrm>
          <a:custGeom>
            <a:avLst/>
            <a:gdLst/>
            <a:ahLst/>
            <a:rect l="l" t="t" r="r" b="b"/>
            <a:pathLst>
              <a:path w="387" h="462">
                <a:moveTo>
                  <a:pt x="0" y="0"/>
                </a:moveTo>
                <a:lnTo>
                  <a:pt x="54" y="0"/>
                </a:lnTo>
                <a:lnTo>
                  <a:pt x="97" y="21"/>
                </a:lnTo>
                <a:lnTo>
                  <a:pt x="129" y="53"/>
                </a:lnTo>
                <a:lnTo>
                  <a:pt x="161" y="118"/>
                </a:lnTo>
                <a:lnTo>
                  <a:pt x="161" y="236"/>
                </a:lnTo>
                <a:lnTo>
                  <a:pt x="150" y="353"/>
                </a:lnTo>
                <a:lnTo>
                  <a:pt x="140" y="418"/>
                </a:lnTo>
                <a:lnTo>
                  <a:pt x="161" y="450"/>
                </a:lnTo>
                <a:lnTo>
                  <a:pt x="215" y="461"/>
                </a:lnTo>
                <a:lnTo>
                  <a:pt x="279" y="461"/>
                </a:lnTo>
                <a:lnTo>
                  <a:pt x="322" y="461"/>
                </a:lnTo>
                <a:lnTo>
                  <a:pt x="354" y="461"/>
                </a:lnTo>
                <a:lnTo>
                  <a:pt x="386" y="4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25240" y="351648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51320" y="3191040"/>
            <a:ext cx="426960" cy="81756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13160" y="15238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19520" y="1905120"/>
            <a:ext cx="393480" cy="879480"/>
          </a:xfrm>
          <a:custGeom>
            <a:avLst/>
            <a:gdLst/>
            <a:ahLst/>
            <a:rect l="l" t="t" r="r" b="b"/>
            <a:pathLst>
              <a:path w="419" h="408">
                <a:moveTo>
                  <a:pt x="418" y="407"/>
                </a:moveTo>
                <a:lnTo>
                  <a:pt x="407" y="343"/>
                </a:lnTo>
                <a:lnTo>
                  <a:pt x="397" y="311"/>
                </a:lnTo>
                <a:lnTo>
                  <a:pt x="386" y="289"/>
                </a:lnTo>
                <a:lnTo>
                  <a:pt x="365" y="257"/>
                </a:lnTo>
                <a:lnTo>
                  <a:pt x="322" y="225"/>
                </a:lnTo>
                <a:lnTo>
                  <a:pt x="279" y="214"/>
                </a:lnTo>
                <a:lnTo>
                  <a:pt x="236" y="204"/>
                </a:lnTo>
                <a:lnTo>
                  <a:pt x="193" y="204"/>
                </a:lnTo>
                <a:lnTo>
                  <a:pt x="150" y="204"/>
                </a:lnTo>
                <a:lnTo>
                  <a:pt x="108" y="204"/>
                </a:lnTo>
                <a:lnTo>
                  <a:pt x="86" y="204"/>
                </a:lnTo>
                <a:lnTo>
                  <a:pt x="54" y="182"/>
                </a:lnTo>
                <a:lnTo>
                  <a:pt x="22" y="140"/>
                </a:lnTo>
                <a:lnTo>
                  <a:pt x="11" y="118"/>
                </a:lnTo>
                <a:lnTo>
                  <a:pt x="11" y="86"/>
                </a:lnTo>
                <a:lnTo>
                  <a:pt x="11" y="43"/>
                </a:lnTo>
                <a:lnTo>
                  <a:pt x="11" y="1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57400" y="4419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23040" y="5181480"/>
            <a:ext cx="291960" cy="255600"/>
          </a:xfrm>
          <a:custGeom>
            <a:avLst/>
            <a:gdLst/>
            <a:ahLst/>
            <a:rect l="l" t="t" r="r" b="b"/>
            <a:pathLst>
              <a:path w="151" h="130">
                <a:moveTo>
                  <a:pt x="0" y="0"/>
                </a:moveTo>
                <a:lnTo>
                  <a:pt x="150" y="11"/>
                </a:lnTo>
                <a:lnTo>
                  <a:pt x="75" y="1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03320" y="2617920"/>
            <a:ext cx="1401840" cy="718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74680" y="2838600"/>
            <a:ext cx="243000" cy="279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68560" y="2849400"/>
            <a:ext cx="182520" cy="142920"/>
          </a:xfrm>
          <a:custGeom>
            <a:avLst/>
            <a:gdLst/>
            <a:ahLst/>
            <a:rect l="l" t="t" r="r" b="b"/>
            <a:pathLst>
              <a:path w="115" h="90">
                <a:moveTo>
                  <a:pt x="0" y="55"/>
                </a:moveTo>
                <a:lnTo>
                  <a:pt x="84" y="89"/>
                </a:ln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50880" y="287352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73080" y="277020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60560" y="3382920"/>
            <a:ext cx="195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69640" y="1646280"/>
            <a:ext cx="159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17920" y="4295880"/>
            <a:ext cx="1344600" cy="376200"/>
          </a:xfrm>
          <a:custGeom>
            <a:avLst/>
            <a:gdLst/>
            <a:ahLst/>
            <a:rect l="l" t="t" r="r" b="b"/>
            <a:pathLst>
              <a:path w="847" h="237">
                <a:moveTo>
                  <a:pt x="0" y="236"/>
                </a:moveTo>
                <a:lnTo>
                  <a:pt x="11" y="182"/>
                </a:lnTo>
                <a:lnTo>
                  <a:pt x="43" y="129"/>
                </a:lnTo>
                <a:lnTo>
                  <a:pt x="86" y="97"/>
                </a:lnTo>
                <a:lnTo>
                  <a:pt x="128" y="86"/>
                </a:lnTo>
                <a:lnTo>
                  <a:pt x="150" y="97"/>
                </a:lnTo>
                <a:lnTo>
                  <a:pt x="182" y="118"/>
                </a:lnTo>
                <a:lnTo>
                  <a:pt x="214" y="129"/>
                </a:lnTo>
                <a:lnTo>
                  <a:pt x="246" y="161"/>
                </a:lnTo>
                <a:lnTo>
                  <a:pt x="268" y="172"/>
                </a:lnTo>
                <a:lnTo>
                  <a:pt x="300" y="172"/>
                </a:lnTo>
                <a:lnTo>
                  <a:pt x="353" y="182"/>
                </a:lnTo>
                <a:lnTo>
                  <a:pt x="396" y="193"/>
                </a:lnTo>
                <a:lnTo>
                  <a:pt x="450" y="193"/>
                </a:lnTo>
                <a:lnTo>
                  <a:pt x="514" y="182"/>
                </a:lnTo>
                <a:lnTo>
                  <a:pt x="557" y="182"/>
                </a:lnTo>
                <a:lnTo>
                  <a:pt x="600" y="172"/>
                </a:lnTo>
                <a:lnTo>
                  <a:pt x="632" y="161"/>
                </a:lnTo>
                <a:lnTo>
                  <a:pt x="675" y="139"/>
                </a:lnTo>
                <a:lnTo>
                  <a:pt x="707" y="118"/>
                </a:lnTo>
                <a:lnTo>
                  <a:pt x="750" y="97"/>
                </a:lnTo>
                <a:lnTo>
                  <a:pt x="782" y="65"/>
                </a:lnTo>
                <a:lnTo>
                  <a:pt x="825" y="32"/>
                </a:lnTo>
                <a:lnTo>
                  <a:pt x="846" y="0"/>
                </a:lnTo>
                <a:lnTo>
                  <a:pt x="814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7720" y="19810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"/>
          <p:cNvCxnSpPr>
            <a:stCxn id="396" idx="2"/>
            <a:endCxn id="391" idx="0"/>
          </p:cNvCxnSpPr>
          <p:nvPr/>
        </p:nvCxnSpPr>
        <p:spPr>
          <a:xfrm flipH="1" rot="16200000">
            <a:off x="1283040" y="2500560"/>
            <a:ext cx="435960" cy="310320"/>
          </a:xfrm>
          <a:prstGeom prst="curvedConnector5">
            <a:avLst>
              <a:gd name="adj1" fmla="val 50000"/>
              <a:gd name="adj2" fmla="val 4994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"/>
          <p:cNvCxnSpPr/>
          <p:nvPr/>
        </p:nvCxnSpPr>
        <p:spPr>
          <a:xfrm flipH="1" rot="16200000">
            <a:off x="1613880" y="2424600"/>
            <a:ext cx="435600" cy="310320"/>
          </a:xfrm>
          <a:prstGeom prst="curvedConnector5">
            <a:avLst>
              <a:gd name="adj1" fmla="val 49958"/>
              <a:gd name="adj2" fmla="val 49941"/>
              <a:gd name="adj3" fmla="val 499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6552360" y="416880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C5B3-0977-4702-9601-1C3296A4B7B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8C4037-26FD-40C2-8855-00401BEC50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gents and objects in Swarm can be pro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attaches itself to an agent, can send a message, change a variable or retrieve values by calling agent or reading variable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76920" y="3657600"/>
            <a:ext cx="1523880" cy="213372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2067600">
            <a:off x="5790960" y="2742840"/>
            <a:ext cx="304560" cy="129528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2290200">
            <a:off x="5562360" y="2514600"/>
            <a:ext cx="1600200" cy="53352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 rot="17278800">
            <a:off x="7010280" y="1447920"/>
            <a:ext cx="914400" cy="1828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162920" y="3124080"/>
            <a:ext cx="1371600" cy="99072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=1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257800" y="4648320"/>
            <a:ext cx="676440" cy="35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AC21-4FF7-4C6F-BC7A-0CA48F7C95A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DE3A82-C729-4DB6-966B-8FD8C5E051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and the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be can be used to communicate with objects in real time through a graphical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aul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e m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gent shows all variables and functions - can also customize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338880" y="4484160"/>
            <a:ext cx="976320" cy="48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78400" y="5121360"/>
            <a:ext cx="779400" cy="109224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2067600">
            <a:off x="4963680" y="4689000"/>
            <a:ext cx="155520" cy="66204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2290200">
            <a:off x="4846320" y="4571640"/>
            <a:ext cx="819000" cy="27288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95760" y="5568840"/>
            <a:ext cx="5047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5" name=""/>
          <p:cNvSpPr/>
          <p:nvPr/>
        </p:nvSpPr>
        <p:spPr>
          <a:xfrm rot="2067600">
            <a:off x="5495400" y="3759120"/>
            <a:ext cx="152640" cy="9669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260440" cy="27082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5636520" y="556272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867280" y="4952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16840" y="523404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value for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7086600" y="44953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12880" y="198108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probe fo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008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80600" y="198108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 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2A7F-D498-408B-A547-D5916A37418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9897A8-AA5C-468B-AF09-1DE5F64C37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without a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s are also used to gather information dynamically from single agents or collection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other features is the ability to define and execute method calls on the fly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1005600">
            <a:off x="5103360" y="2511000"/>
            <a:ext cx="1420920" cy="7682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124400">
            <a:off x="5622840" y="3301920"/>
            <a:ext cx="157320" cy="1305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897600">
            <a:off x="4150800" y="4527360"/>
            <a:ext cx="4135680" cy="768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629240" y="440064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34120" y="447660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19920" y="451476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05720" y="459108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72440" y="464832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6522000">
            <a:off x="6922440" y="2674800"/>
            <a:ext cx="206640" cy="981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372440" y="2495520"/>
            <a:ext cx="1066680" cy="11239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386240" y="5356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124600" y="571824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032440" y="1984320"/>
            <a:ext cx="35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analyze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147080" y="3660840"/>
            <a:ext cx="163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s 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7" idx="1"/>
            <a:endCxn id="430" idx="3"/>
          </p:cNvCxnSpPr>
          <p:nvPr/>
        </p:nvCxnSpPr>
        <p:spPr>
          <a:xfrm flipH="1" rot="10800000">
            <a:off x="4384440" y="4887360"/>
            <a:ext cx="329040" cy="697320"/>
          </a:xfrm>
          <a:prstGeom prst="curvedConnector5">
            <a:avLst>
              <a:gd name="adj1" fmla="val -69550"/>
              <a:gd name="adj2" fmla="val 30165"/>
              <a:gd name="adj3" fmla="val -695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2" name=""/>
          <p:cNvCxnSpPr>
            <a:stCxn id="438" idx="3"/>
            <a:endCxn id="429" idx="3"/>
          </p:cNvCxnSpPr>
          <p:nvPr/>
        </p:nvCxnSpPr>
        <p:spPr>
          <a:xfrm flipV="1">
            <a:off x="7626240" y="5444640"/>
            <a:ext cx="589680" cy="502560"/>
          </a:xfrm>
          <a:prstGeom prst="curvedConnector5">
            <a:avLst>
              <a:gd name="adj1" fmla="val 155772"/>
              <a:gd name="adj2" fmla="val 49964"/>
              <a:gd name="adj3" fmla="val 1557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3" name=""/>
          <p:cNvCxnSpPr>
            <a:stCxn id="439" idx="1"/>
            <a:endCxn id="427" idx="1"/>
          </p:cNvCxnSpPr>
          <p:nvPr/>
        </p:nvCxnSpPr>
        <p:spPr>
          <a:xfrm flipH="1" flipV="1" rot="10800000">
            <a:off x="5032080" y="2211840"/>
            <a:ext cx="102240" cy="477000"/>
          </a:xfrm>
          <a:prstGeom prst="curvedConnector5">
            <a:avLst>
              <a:gd name="adj1" fmla="val -234275"/>
              <a:gd name="adj2" fmla="val 50000"/>
              <a:gd name="adj3" fmla="val -2342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44" name=""/>
          <p:cNvSpPr/>
          <p:nvPr/>
        </p:nvSpPr>
        <p:spPr>
          <a:xfrm>
            <a:off x="4309920" y="35654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" name=""/>
          <p:cNvCxnSpPr>
            <a:stCxn id="444" idx="2"/>
            <a:endCxn id="428" idx="1"/>
          </p:cNvCxnSpPr>
          <p:nvPr/>
        </p:nvCxnSpPr>
        <p:spPr>
          <a:xfrm flipH="1" flipV="1" rot="5400000">
            <a:off x="5143320" y="3539880"/>
            <a:ext cx="95760" cy="870480"/>
          </a:xfrm>
          <a:prstGeom prst="curvedConnector5">
            <a:avLst>
              <a:gd name="adj1" fmla="val -240000"/>
              <a:gd name="adj2" fmla="val 31816"/>
              <a:gd name="adj3" fmla="val -2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75B7-31E8-456E-A6A8-CEE000A5CC4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741FC4-F73E-4056-B713-8FB691F4A18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ical User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provided to create and man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ster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llection, calculation and updating is provided through support objects to the GUI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ezgraph" descr=""/>
          <p:cNvPicPr/>
          <p:nvPr/>
        </p:nvPicPr>
        <p:blipFill>
          <a:blip r:embed="rId1"/>
          <a:stretch/>
        </p:blipFill>
        <p:spPr>
          <a:xfrm>
            <a:off x="4626000" y="1933560"/>
            <a:ext cx="2590920" cy="1739880"/>
          </a:xfrm>
          <a:prstGeom prst="rect">
            <a:avLst/>
          </a:prstGeom>
          <a:ln w="0">
            <a:noFill/>
          </a:ln>
        </p:spPr>
      </p:pic>
      <p:pic>
        <p:nvPicPr>
          <p:cNvPr id="449" name="ezbin" descr=""/>
          <p:cNvPicPr/>
          <p:nvPr/>
        </p:nvPicPr>
        <p:blipFill>
          <a:blip r:embed="rId2"/>
          <a:stretch/>
        </p:blipFill>
        <p:spPr>
          <a:xfrm>
            <a:off x="5600880" y="3081240"/>
            <a:ext cx="2628720" cy="17845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4508640" y="4102200"/>
            <a:ext cx="2025360" cy="20430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4583160" y="4184640"/>
            <a:ext cx="1876320" cy="187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DF0A-E0D6-4C6C-A999-8730E44CF36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35F551-2567-49CA-BFE1-B3A55F8CE2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 rot="1124400">
            <a:off x="5663880" y="322848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1124400">
            <a:off x="6883200" y="328572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469200" y="3790800"/>
            <a:ext cx="641160" cy="6764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124400">
            <a:off x="6578280" y="439056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005600">
            <a:off x="5028840" y="3762000"/>
            <a:ext cx="853920" cy="4618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ing data to the GUI wid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rot="1124400">
            <a:off x="5340240" y="4238280"/>
            <a:ext cx="95400" cy="784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897600">
            <a:off x="4456080" y="4974840"/>
            <a:ext cx="2486160" cy="4618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43360" y="4898880"/>
            <a:ext cx="34308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67440" y="4944960"/>
            <a:ext cx="34272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80000" y="4967280"/>
            <a:ext cx="343080" cy="344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91120" y="5013360"/>
            <a:ext cx="3445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92880" y="5048280"/>
            <a:ext cx="3427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ezgraph" descr=""/>
          <p:cNvPicPr/>
          <p:nvPr/>
        </p:nvPicPr>
        <p:blipFill>
          <a:blip r:embed="rId1"/>
          <a:stretch/>
        </p:blipFill>
        <p:spPr>
          <a:xfrm>
            <a:off x="5254560" y="1895400"/>
            <a:ext cx="2590920" cy="17398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7357320" y="387036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604320" y="35082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005000" y="43275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262640" y="49179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33640" y="53751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64720" y="55468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68" idx="3"/>
            <a:endCxn id="458" idx="1"/>
          </p:cNvCxnSpPr>
          <p:nvPr/>
        </p:nvCxnSpPr>
        <p:spPr>
          <a:xfrm>
            <a:off x="4898520" y="4555800"/>
            <a:ext cx="443880" cy="59400"/>
          </a:xfrm>
          <a:prstGeom prst="curvedConnector5">
            <a:avLst>
              <a:gd name="adj1" fmla="val 35795"/>
              <a:gd name="adj2" fmla="val 50000"/>
              <a:gd name="adj3" fmla="val 357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69" idx="1"/>
            <a:endCxn id="455" idx="3"/>
          </p:cNvCxnSpPr>
          <p:nvPr/>
        </p:nvCxnSpPr>
        <p:spPr>
          <a:xfrm rot="10800000">
            <a:off x="6670080" y="4796640"/>
            <a:ext cx="591120" cy="349920"/>
          </a:xfrm>
          <a:prstGeom prst="curvedConnector5">
            <a:avLst>
              <a:gd name="adj1" fmla="val 39244"/>
              <a:gd name="adj2" fmla="val 49948"/>
              <a:gd name="adj3" fmla="val 3924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4" name=""/>
          <p:cNvCxnSpPr>
            <a:stCxn id="470" idx="2"/>
            <a:endCxn id="461" idx="4"/>
          </p:cNvCxnSpPr>
          <p:nvPr/>
        </p:nvCxnSpPr>
        <p:spPr>
          <a:xfrm flipH="1" flipV="1" rot="5400000">
            <a:off x="4544640" y="5038920"/>
            <a:ext cx="545040" cy="1042200"/>
          </a:xfrm>
          <a:prstGeom prst="curvedConnector5">
            <a:avLst>
              <a:gd name="adj1" fmla="val -41969"/>
              <a:gd name="adj2" fmla="val 50000"/>
              <a:gd name="adj3" fmla="val -419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5" name=""/>
          <p:cNvCxnSpPr>
            <a:stCxn id="471" idx="2"/>
            <a:endCxn id="459" idx="3"/>
          </p:cNvCxnSpPr>
          <p:nvPr/>
        </p:nvCxnSpPr>
        <p:spPr>
          <a:xfrm flipV="1" rot="16200000">
            <a:off x="7156080" y="5268240"/>
            <a:ext cx="478800" cy="992880"/>
          </a:xfrm>
          <a:prstGeom prst="curvedConnector5">
            <a:avLst>
              <a:gd name="adj1" fmla="val -47780"/>
              <a:gd name="adj2" fmla="val 41748"/>
              <a:gd name="adj3" fmla="val -477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6" name=""/>
          <p:cNvCxnSpPr>
            <a:stCxn id="467" idx="0"/>
            <a:endCxn id="456" idx="1"/>
          </p:cNvCxnSpPr>
          <p:nvPr/>
        </p:nvCxnSpPr>
        <p:spPr>
          <a:xfrm flipH="1" rot="16200000">
            <a:off x="4474080" y="3295080"/>
            <a:ext cx="361080" cy="785160"/>
          </a:xfrm>
          <a:prstGeom prst="curvedConnector5">
            <a:avLst>
              <a:gd name="adj1" fmla="val -63373"/>
              <a:gd name="adj2" fmla="val 43807"/>
              <a:gd name="adj3" fmla="val -633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66" idx="0"/>
            <a:endCxn id="454" idx="6"/>
          </p:cNvCxnSpPr>
          <p:nvPr/>
        </p:nvCxnSpPr>
        <p:spPr>
          <a:xfrm rot="5400000">
            <a:off x="7432920" y="3546360"/>
            <a:ext cx="259560" cy="905760"/>
          </a:xfrm>
          <a:prstGeom prst="curvedConnector5">
            <a:avLst>
              <a:gd name="adj1" fmla="val -88333"/>
              <a:gd name="adj2" fmla="val 43220"/>
              <a:gd name="adj3" fmla="val -8833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78" name=""/>
          <p:cNvSpPr/>
          <p:nvPr/>
        </p:nvSpPr>
        <p:spPr>
          <a:xfrm>
            <a:off x="3681720" y="2498760"/>
            <a:ext cx="10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8" idx="0"/>
            <a:endCxn id="465" idx="1"/>
          </p:cNvCxnSpPr>
          <p:nvPr/>
        </p:nvCxnSpPr>
        <p:spPr>
          <a:xfrm flipH="1" rot="16200000">
            <a:off x="4589640" y="2098800"/>
            <a:ext cx="267120" cy="1064160"/>
          </a:xfrm>
          <a:prstGeom prst="curvedConnector5">
            <a:avLst>
              <a:gd name="adj1" fmla="val -85695"/>
              <a:gd name="adj2" fmla="val 36988"/>
              <a:gd name="adj3" fmla="val -856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08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on graphs or other widgets relies heavily on the probes and dynamic access to agent’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collection objects also facilitat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9E1C-139B-4C91-AB0E-0E06813C52D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35ACDC-DCC3-44B9-81AC-E758064F92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Objective-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: Created by Brad Cox, most intensively used by NeXT, now owned by Apple Computer and forms basis for Mac OS X (Rhapso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difference between C++ and Objective-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learn: A simple superclass of C - no new key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interpreted: Dynamic binding at runtime for objects and methods. Static typing op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E7C7-5DF5-4CEE-AA30-2D4A31F908A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F99DDF-1029-4D50-9744-DD0A1EFFF5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ing objects in Objective-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bject is defined in terms of it’s interface and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gram or project consists of a collection of object declarations and definitions (*.h and *.m fi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WATCHC1" descr=""/>
          <p:cNvPicPr/>
          <p:nvPr/>
        </p:nvPicPr>
        <p:blipFill>
          <a:blip r:embed="rId1"/>
          <a:stretch/>
        </p:blipFill>
        <p:spPr>
          <a:xfrm>
            <a:off x="1481040" y="1854360"/>
            <a:ext cx="1838520" cy="14094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718200" y="565308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: *.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540160" y="3149640"/>
            <a:ext cx="2082600" cy="226044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mplemen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2760" y="3301920"/>
            <a:ext cx="2133360" cy="232416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nterfa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la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inst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/>
          <p:nvPr/>
        </p:nvCxnSpPr>
        <p:spPr>
          <a:xfrm flipH="1" flipV="1" rot="10800000">
            <a:off x="1722240" y="2583360"/>
            <a:ext cx="81360" cy="1010520"/>
          </a:xfrm>
          <a:prstGeom prst="bentConnector4">
            <a:avLst>
              <a:gd name="adj1" fmla="val -282222"/>
              <a:gd name="adj2" fmla="val 84889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"/>
          <p:cNvCxnSpPr/>
          <p:nvPr/>
        </p:nvCxnSpPr>
        <p:spPr>
          <a:xfrm>
            <a:off x="3002040" y="2584440"/>
            <a:ext cx="148320" cy="781920"/>
          </a:xfrm>
          <a:prstGeom prst="bent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1" name=""/>
          <p:cNvSpPr/>
          <p:nvPr/>
        </p:nvSpPr>
        <p:spPr>
          <a:xfrm>
            <a:off x="2494440" y="5386320"/>
            <a:ext cx="23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: *.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873B-EFA5-4017-AAC1-BC185B52AAF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3F863E-B3FE-4534-A594-49789FD876F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cus for the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structure of a Swarm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contributions of the Swarm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management: Swarms, Activity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management: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input and output: GUI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management: Creation/de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multiple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F2DC-263C-4EC4-8CA3-9A48FF0CF3A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5D7A74-4C77-475A-81AE-D73C34A367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571680" y="4324320"/>
            <a:ext cx="409572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1680" y="2666880"/>
            <a:ext cx="4133520" cy="1047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971800" y="2171880"/>
            <a:ext cx="16192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2171880"/>
            <a:ext cx="5140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Objective-C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146640" y="2543040"/>
            <a:ext cx="541440" cy="5414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088040" y="3319560"/>
            <a:ext cx="541440" cy="541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37000" y="3336840"/>
            <a:ext cx="541440" cy="54144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0" name=""/>
          <p:cNvCxnSpPr>
            <a:stCxn id="497" idx="4"/>
            <a:endCxn id="499" idx="0"/>
          </p:cNvCxnSpPr>
          <p:nvPr/>
        </p:nvCxnSpPr>
        <p:spPr>
          <a:xfrm rot="5400000">
            <a:off x="5886720" y="280548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97" idx="4"/>
            <a:endCxn id="498" idx="0"/>
          </p:cNvCxnSpPr>
          <p:nvPr/>
        </p:nvCxnSpPr>
        <p:spPr>
          <a:xfrm flipH="1" rot="16200000">
            <a:off x="6771240" y="2730960"/>
            <a:ext cx="235800" cy="941760"/>
          </a:xfrm>
          <a:prstGeom prst="bentConnector3">
            <a:avLst>
              <a:gd name="adj1" fmla="val 5535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02" name=""/>
          <p:cNvSpPr/>
          <p:nvPr/>
        </p:nvSpPr>
        <p:spPr>
          <a:xfrm>
            <a:off x="605160" y="2208240"/>
            <a:ext cx="429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 : 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 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146560" y="4226040"/>
            <a:ext cx="1363680" cy="139068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3872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endCxn id="493" idx="3"/>
          </p:cNvCxnSpPr>
          <p:nvPr/>
        </p:nvCxnSpPr>
        <p:spPr>
          <a:xfrm rot="10800000">
            <a:off x="4704480" y="3191040"/>
            <a:ext cx="515160" cy="1390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endCxn id="492" idx="3"/>
          </p:cNvCxnSpPr>
          <p:nvPr/>
        </p:nvCxnSpPr>
        <p:spPr>
          <a:xfrm rot="10800000">
            <a:off x="4666680" y="4704480"/>
            <a:ext cx="552960" cy="457920"/>
          </a:xfrm>
          <a:prstGeom prst="bentConnector3">
            <a:avLst>
              <a:gd name="adj1" fmla="val 499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stCxn id="497" idx="0"/>
            <a:endCxn id="494" idx="0"/>
          </p:cNvCxnSpPr>
          <p:nvPr/>
        </p:nvCxnSpPr>
        <p:spPr>
          <a:xfrm flipV="1" rot="16200000">
            <a:off x="4913640" y="1038240"/>
            <a:ext cx="371880" cy="2637720"/>
          </a:xfrm>
          <a:prstGeom prst="bentConnector3">
            <a:avLst>
              <a:gd name="adj1" fmla="val 1615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"/>
          <p:cNvCxnSpPr>
            <a:stCxn id="499" idx="2"/>
            <a:endCxn id="495" idx="0"/>
          </p:cNvCxnSpPr>
          <p:nvPr/>
        </p:nvCxnSpPr>
        <p:spPr>
          <a:xfrm rot="10800000">
            <a:off x="2390040" y="2171160"/>
            <a:ext cx="2946960" cy="1437120"/>
          </a:xfrm>
          <a:prstGeom prst="bentConnector4">
            <a:avLst>
              <a:gd name="adj1" fmla="val 6841"/>
              <a:gd name="adj2" fmla="val 1317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9" name=""/>
          <p:cNvSpPr/>
          <p:nvPr/>
        </p:nvSpPr>
        <p:spPr>
          <a:xfrm>
            <a:off x="6842160" y="23652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052400" y="40226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089840" y="465120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85640" y="57942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512" idx="1"/>
            <a:endCxn id="503" idx="4"/>
          </p:cNvCxnSpPr>
          <p:nvPr/>
        </p:nvCxnSpPr>
        <p:spPr>
          <a:xfrm rot="10800000">
            <a:off x="5828760" y="5616000"/>
            <a:ext cx="956160" cy="4068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511" idx="1"/>
            <a:endCxn id="503" idx="7"/>
          </p:cNvCxnSpPr>
          <p:nvPr/>
        </p:nvCxnSpPr>
        <p:spPr>
          <a:xfrm rot="10800000">
            <a:off x="6309720" y="4428360"/>
            <a:ext cx="780120" cy="634320"/>
          </a:xfrm>
          <a:prstGeom prst="curvedConnector5">
            <a:avLst>
              <a:gd name="adj1" fmla="val 37026"/>
              <a:gd name="adj2" fmla="val 84043"/>
              <a:gd name="adj3" fmla="val 370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F842-BC6A-4BC9-9D13-186AA22D9EDE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F0AA9E-BBD1-47DC-802C-8BCF42E420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27720" y="1866960"/>
            <a:ext cx="427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method called `message'. E.g. ‘step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message:’ that takes one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X:(type)x Y:(type)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setX:Y:’ that takes tw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2720" y="1981080"/>
            <a:ext cx="4048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: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52C2-5F45-4511-931E-170887B29EF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A21D6C-3BD0-4870-A135-6120AE5CA2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bjective-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Message:(type)v1 with:(type)v2 and:(type) 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E9BB-F212-4996-A3C6-9B7605FB2BE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753214-9D10-43DC-926A-89311D6834C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Functions vs. ObjC metho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-C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: (type) v1 argName2: (type) v2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((type) v1,(type) v2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324320" y="4857840"/>
            <a:ext cx="3543480" cy="1276200"/>
          </a:xfrm>
          <a:prstGeom prst="wedgeRectCallout">
            <a:avLst>
              <a:gd name="adj1" fmla="val -102643"/>
              <a:gd name="adj2" fmla="val -4402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n body c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exactl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in C and Objective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4071-6369-4519-8845-EC7527694422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5BEB6C-3DF4-4CD1-9C4B-AF1EA76DF7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d variable type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variable type for object in ObjC is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this as a special variable type (which is actually a pointer to a special data structure - namely the ob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themselve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elf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superclas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1CCA-A03F-449E-87B2-00287F80AB8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273424-BAAD-400A-BDD1-558A2412DA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54640" y="4781520"/>
            <a:ext cx="3938400" cy="11620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25840" y="2662200"/>
            <a:ext cx="3938760" cy="19526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419720" y="1981080"/>
            <a:ext cx="15238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19920" y="1981080"/>
            <a:ext cx="24382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er file or interface decla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197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face  Obj:Super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085240" y="262908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085240" y="182880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043520" y="185724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085240" y="461628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2560" y="28735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2560" y="33591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2560" y="38289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82560" y="424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E658-6DBB-45EE-9FA5-03326A1BE69B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64BDA9-9857-4320-942A-48566DA6F0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75000" y="5041800"/>
            <a:ext cx="4449960" cy="100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292960" y="4719600"/>
            <a:ext cx="459000" cy="47484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4200" y="3425760"/>
            <a:ext cx="4449600" cy="135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270320" y="2003400"/>
            <a:ext cx="4449960" cy="363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67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553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6708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mport “Obj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ementation  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1981080"/>
            <a:ext cx="352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interface the object file contains the implementation of th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are essentially C functions, same rules about return values and arguments, local 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eturn type of method is not defined value must return an id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242200" y="1890720"/>
            <a:ext cx="459000" cy="47448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23880" y="23623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73640" y="236052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232840" y="245916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247240" y="320976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25320" y="276228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23880" y="31449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23880" y="38955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FC0D-72C3-4BDE-B35B-1E69DBBDD33F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189217-5AEA-492A-BD21-A968651C86D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small ObjC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95400" y="441000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89240" y="4427640"/>
            <a:ext cx="9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758040" y="2106720"/>
            <a:ext cx="91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902560" y="212256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569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575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581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587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593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8E8D-AAF6-4706-B02B-4FDE539F716C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0DA127-8F37-41A9-8357-CE6F91518D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layers A and B alternate aiming revolver at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n starts emp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pulling trigger each player must load new bullet in revol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revolver doesn’t go off player hands gun over to op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97F5-163A-421C-BD11-65FDF478BB3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35A4E5-EB23-4889-BE7D-09DA100D372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vival prob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1469520" y="1601640"/>
            <a:ext cx="1404000" cy="981000"/>
            <a:chOff x="1469520" y="1601640"/>
            <a:chExt cx="1404000" cy="981000"/>
          </a:xfrm>
        </p:grpSpPr>
        <p:sp>
          <p:nvSpPr>
            <p:cNvPr id="604" name=""/>
            <p:cNvSpPr/>
            <p:nvPr/>
          </p:nvSpPr>
          <p:spPr>
            <a:xfrm flipH="1">
              <a:off x="1469520" y="2081160"/>
              <a:ext cx="58428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04920" y="2081160"/>
              <a:ext cx="7686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92880" y="1601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2475000" y="2389320"/>
            <a:ext cx="1402920" cy="981000"/>
            <a:chOff x="2475000" y="2389320"/>
            <a:chExt cx="1402920" cy="981000"/>
          </a:xfrm>
        </p:grpSpPr>
        <p:sp>
          <p:nvSpPr>
            <p:cNvPr id="608" name=""/>
            <p:cNvSpPr/>
            <p:nvPr/>
          </p:nvSpPr>
          <p:spPr>
            <a:xfrm flipH="1">
              <a:off x="2475000" y="2868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109680" y="2868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905200" y="2389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3610080" y="3141720"/>
            <a:ext cx="1402920" cy="981000"/>
            <a:chOff x="3610080" y="3141720"/>
            <a:chExt cx="1402920" cy="981000"/>
          </a:xfrm>
        </p:grpSpPr>
        <p:sp>
          <p:nvSpPr>
            <p:cNvPr id="612" name=""/>
            <p:cNvSpPr/>
            <p:nvPr/>
          </p:nvSpPr>
          <p:spPr>
            <a:xfrm flipH="1">
              <a:off x="3610080" y="36212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44760" y="36212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32360" y="3141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680000" y="3876840"/>
            <a:ext cx="1402920" cy="981000"/>
            <a:chOff x="4680000" y="3876840"/>
            <a:chExt cx="1402920" cy="981000"/>
          </a:xfrm>
        </p:grpSpPr>
        <p:sp>
          <p:nvSpPr>
            <p:cNvPr id="616" name=""/>
            <p:cNvSpPr/>
            <p:nvPr/>
          </p:nvSpPr>
          <p:spPr>
            <a:xfrm flipH="1">
              <a:off x="4680000" y="435636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14680" y="435636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10200" y="3876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5783400" y="4594320"/>
            <a:ext cx="1402920" cy="981000"/>
            <a:chOff x="5783400" y="4594320"/>
            <a:chExt cx="1402920" cy="981000"/>
          </a:xfrm>
        </p:grpSpPr>
        <p:sp>
          <p:nvSpPr>
            <p:cNvPr id="620" name=""/>
            <p:cNvSpPr/>
            <p:nvPr/>
          </p:nvSpPr>
          <p:spPr>
            <a:xfrm flipH="1">
              <a:off x="5783400" y="5073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418080" y="5073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205680" y="459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001160" y="1968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439360" y="19018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887120" y="28209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541320" y="27036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152360" y="2408400"/>
            <a:ext cx="250920" cy="568080"/>
            <a:chOff x="1152360" y="2408400"/>
            <a:chExt cx="250920" cy="568080"/>
          </a:xfrm>
        </p:grpSpPr>
        <p:sp>
          <p:nvSpPr>
            <p:cNvPr id="628" name=""/>
            <p:cNvSpPr/>
            <p:nvPr/>
          </p:nvSpPr>
          <p:spPr>
            <a:xfrm>
              <a:off x="1270080" y="240840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259236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2206800" y="3313080"/>
            <a:ext cx="250560" cy="568440"/>
            <a:chOff x="2206800" y="3313080"/>
            <a:chExt cx="250560" cy="568440"/>
          </a:xfrm>
        </p:grpSpPr>
        <p:sp>
          <p:nvSpPr>
            <p:cNvPr id="631" name=""/>
            <p:cNvSpPr/>
            <p:nvPr/>
          </p:nvSpPr>
          <p:spPr>
            <a:xfrm>
              <a:off x="2324160" y="331308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206800" y="3497400"/>
              <a:ext cx="25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343320" y="4165560"/>
            <a:ext cx="250920" cy="568440"/>
            <a:chOff x="3343320" y="4165560"/>
            <a:chExt cx="250920" cy="568440"/>
          </a:xfrm>
        </p:grpSpPr>
        <p:sp>
          <p:nvSpPr>
            <p:cNvPr id="634" name=""/>
            <p:cNvSpPr/>
            <p:nvPr/>
          </p:nvSpPr>
          <p:spPr>
            <a:xfrm>
              <a:off x="3461040" y="41655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43320" y="43498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4429080" y="4917960"/>
            <a:ext cx="250920" cy="568440"/>
            <a:chOff x="4429080" y="4917960"/>
            <a:chExt cx="250920" cy="568440"/>
          </a:xfrm>
        </p:grpSpPr>
        <p:sp>
          <p:nvSpPr>
            <p:cNvPr id="637" name=""/>
            <p:cNvSpPr/>
            <p:nvPr/>
          </p:nvSpPr>
          <p:spPr>
            <a:xfrm>
              <a:off x="4546800" y="49179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29080" y="51022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5481720" y="5600880"/>
            <a:ext cx="250920" cy="568080"/>
            <a:chOff x="5481720" y="5600880"/>
            <a:chExt cx="250920" cy="568080"/>
          </a:xfrm>
        </p:grpSpPr>
        <p:sp>
          <p:nvSpPr>
            <p:cNvPr id="640" name=""/>
            <p:cNvSpPr/>
            <p:nvPr/>
          </p:nvSpPr>
          <p:spPr>
            <a:xfrm>
              <a:off x="5599440" y="560088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481720" y="57848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7253280" y="5602320"/>
            <a:ext cx="250920" cy="568440"/>
            <a:chOff x="7253280" y="5602320"/>
            <a:chExt cx="250920" cy="568440"/>
          </a:xfrm>
        </p:grpSpPr>
        <p:sp>
          <p:nvSpPr>
            <p:cNvPr id="643" name=""/>
            <p:cNvSpPr/>
            <p:nvPr/>
          </p:nvSpPr>
          <p:spPr>
            <a:xfrm>
              <a:off x="7371000" y="560232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53280" y="57866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2957040" y="358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093560" y="42926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110720" y="5160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162040" y="4994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60480" y="34066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47760" y="4175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766920" y="475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9633-7EC2-4137-975F-9E56FE71BC77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D814CA-BDC7-4855-A025-D80F6700C2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po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tudy complex nonlinear systems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co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tional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cr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based models allow us to stu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, heterogeneous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nts which face costs of information acquisition and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ted subsystems - economy, markets, firms, plants,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4339-6223-4C49-8C51-9E08E7898C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A1FF15-0DCD-49C3-B04D-750C3CCCBB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project: 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731400" y="4410000"/>
            <a:ext cx="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807160" y="4427640"/>
            <a:ext cx="11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793680" y="2106720"/>
            <a:ext cx="8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820480" y="212256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664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670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676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682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688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5664-7F4F-4352-8589-CB9B5EAA1981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DFC455-304D-4E1D-8D52-2D29998E29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Play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nam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 oth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init: (int) n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tOther: 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is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play: 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76920" y="3911760"/>
            <a:ext cx="166356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P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Play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ow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ther he is a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ity of other p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Player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 to “aliv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revol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194600" y="376704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264440" y="418932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838760" y="2362320"/>
            <a:ext cx="16635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2" name=""/>
          <p:cNvCxnSpPr>
            <a:stCxn id="699" idx="4"/>
            <a:endCxn id="696" idx="2"/>
          </p:cNvCxnSpPr>
          <p:nvPr/>
        </p:nvCxnSpPr>
        <p:spPr>
          <a:xfrm rot="5400000">
            <a:off x="6337440" y="396288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99" idx="0"/>
            <a:endCxn id="701" idx="3"/>
          </p:cNvCxnSpPr>
          <p:nvPr/>
        </p:nvCxnSpPr>
        <p:spPr>
          <a:xfrm flipV="1" rot="16200000">
            <a:off x="6681960" y="284184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0F43-B2A0-4545-AFF1-BD3DC48FDDCA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C3848B-3BDE-4473-96FD-9F15E5AEDF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Revol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Revolv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Gun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new bul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age trigger and return result (fired, didn’t f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Revolv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bullet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empt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loa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trigg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991200" y="3119400"/>
            <a:ext cx="825480" cy="8254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8" name=""/>
          <p:cNvCxnSpPr>
            <a:stCxn id="707" idx="4"/>
          </p:cNvCxnSpPr>
          <p:nvPr/>
        </p:nvCxnSpPr>
        <p:spPr>
          <a:xfrm rot="5400000">
            <a:off x="6134400" y="331524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707" idx="0"/>
          </p:cNvCxnSpPr>
          <p:nvPr/>
        </p:nvCxnSpPr>
        <p:spPr>
          <a:xfrm flipV="1" rot="16200000">
            <a:off x="6478920" y="219420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0" name=""/>
          <p:cNvSpPr/>
          <p:nvPr/>
        </p:nvSpPr>
        <p:spPr>
          <a:xfrm>
            <a:off x="7048440" y="355608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2B55-A551-4EBE-87F6-7B052C333E4E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A505FB-6046-4C35-B5C3-A68F400749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are created in main.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hands empty revolver object off to player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A loads bullet and pulls trig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A is alive hands gun to 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to 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B loads bullet and pulls trig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B is alive hands gun to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38B6-A074-4227-9A32-12CA76E22F80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47A83C-3CE3-4F83-9E6A-023238371C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5460840" y="1574640"/>
            <a:ext cx="2578320" cy="2387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"/>
          <p:cNvCxnSpPr>
            <a:endCxn id="716" idx="2"/>
          </p:cNvCxnSpPr>
          <p:nvPr/>
        </p:nvCxnSpPr>
        <p:spPr>
          <a:xfrm rot="10800000">
            <a:off x="1370880" y="2401200"/>
            <a:ext cx="4687200" cy="3396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718" idx="2"/>
            <a:endCxn id="716" idx="2"/>
          </p:cNvCxnSpPr>
          <p:nvPr/>
        </p:nvCxnSpPr>
        <p:spPr>
          <a:xfrm rot="10800000">
            <a:off x="1370880" y="2401200"/>
            <a:ext cx="2946960" cy="2405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87320" y="1574640"/>
            <a:ext cx="1168560" cy="876600"/>
          </a:xfrm>
          <a:prstGeom prst="flowChartDocumen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2548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16200" y="27115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stCxn id="720" idx="6"/>
            <a:endCxn id="721" idx="2"/>
          </p:cNvCxnSpPr>
          <p:nvPr/>
        </p:nvCxnSpPr>
        <p:spPr>
          <a:xfrm>
            <a:off x="1584360" y="29779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3" name=""/>
          <p:cNvSpPr/>
          <p:nvPr/>
        </p:nvSpPr>
        <p:spPr>
          <a:xfrm>
            <a:off x="257796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4" name=""/>
          <p:cNvCxnSpPr/>
          <p:nvPr/>
        </p:nvCxnSpPr>
        <p:spPr>
          <a:xfrm>
            <a:off x="2371680" y="296532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5" name=""/>
          <p:cNvSpPr/>
          <p:nvPr/>
        </p:nvSpPr>
        <p:spPr>
          <a:xfrm>
            <a:off x="256536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556080" y="3575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7" name=""/>
          <p:cNvCxnSpPr>
            <a:stCxn id="725" idx="6"/>
            <a:endCxn id="726" idx="2"/>
          </p:cNvCxnSpPr>
          <p:nvPr/>
        </p:nvCxnSpPr>
        <p:spPr>
          <a:xfrm>
            <a:off x="3324240" y="38415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8" name=""/>
          <p:cNvSpPr/>
          <p:nvPr/>
        </p:nvSpPr>
        <p:spPr>
          <a:xfrm>
            <a:off x="431784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317840" y="44388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308560" y="45403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0" name=""/>
          <p:cNvCxnSpPr>
            <a:stCxn id="718" idx="6"/>
            <a:endCxn id="729" idx="2"/>
          </p:cNvCxnSpPr>
          <p:nvPr/>
        </p:nvCxnSpPr>
        <p:spPr>
          <a:xfrm>
            <a:off x="5076720" y="48067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1" name=""/>
          <p:cNvCxnSpPr/>
          <p:nvPr/>
        </p:nvCxnSpPr>
        <p:spPr>
          <a:xfrm>
            <a:off x="4644720" y="426096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2" name=""/>
          <p:cNvCxnSpPr/>
          <p:nvPr/>
        </p:nvCxnSpPr>
        <p:spPr>
          <a:xfrm>
            <a:off x="2917440" y="3295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3" name=""/>
          <p:cNvCxnSpPr>
            <a:stCxn id="723" idx="0"/>
            <a:endCxn id="716" idx="3"/>
          </p:cNvCxnSpPr>
          <p:nvPr/>
        </p:nvCxnSpPr>
        <p:spPr>
          <a:xfrm flipV="1" rot="16200000">
            <a:off x="2157840" y="1810080"/>
            <a:ext cx="597600" cy="1002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4" name=""/>
          <p:cNvSpPr/>
          <p:nvPr/>
        </p:nvSpPr>
        <p:spPr>
          <a:xfrm>
            <a:off x="6083280" y="4464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5" name=""/>
          <p:cNvCxnSpPr/>
          <p:nvPr/>
        </p:nvCxnSpPr>
        <p:spPr>
          <a:xfrm>
            <a:off x="5877000" y="48193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6" name=""/>
          <p:cNvSpPr/>
          <p:nvPr/>
        </p:nvSpPr>
        <p:spPr>
          <a:xfrm>
            <a:off x="607068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061040" y="5429160"/>
            <a:ext cx="57492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8" name=""/>
          <p:cNvCxnSpPr>
            <a:stCxn id="736" idx="6"/>
            <a:endCxn id="737" idx="2"/>
          </p:cNvCxnSpPr>
          <p:nvPr/>
        </p:nvCxnSpPr>
        <p:spPr>
          <a:xfrm>
            <a:off x="6829200" y="5695560"/>
            <a:ext cx="23220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9" name=""/>
          <p:cNvSpPr/>
          <p:nvPr/>
        </p:nvSpPr>
        <p:spPr>
          <a:xfrm>
            <a:off x="782316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0" name=""/>
          <p:cNvCxnSpPr/>
          <p:nvPr/>
        </p:nvCxnSpPr>
        <p:spPr>
          <a:xfrm>
            <a:off x="7616880" y="56829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1" name=""/>
          <p:cNvCxnSpPr/>
          <p:nvPr/>
        </p:nvCxnSpPr>
        <p:spPr>
          <a:xfrm>
            <a:off x="6422760" y="5149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2" name=""/>
          <p:cNvSpPr/>
          <p:nvPr/>
        </p:nvSpPr>
        <p:spPr>
          <a:xfrm>
            <a:off x="2301120" y="2098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09040" y="4575240"/>
            <a:ext cx="13161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301120" y="5527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"/>
          <p:cNvCxnSpPr/>
          <p:nvPr/>
        </p:nvCxnSpPr>
        <p:spPr>
          <a:xfrm>
            <a:off x="8238600" y="60390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6" name=""/>
          <p:cNvCxnSpPr/>
          <p:nvPr/>
        </p:nvCxnSpPr>
        <p:spPr>
          <a:xfrm>
            <a:off x="4098960" y="381600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7" name=""/>
          <p:cNvSpPr/>
          <p:nvPr/>
        </p:nvSpPr>
        <p:spPr>
          <a:xfrm>
            <a:off x="5727600" y="161928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53160" y="23684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449040" y="1781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448680" y="256860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448320" y="32544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Rev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880240" y="3143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EEE2-318D-494B-862E-951A496370B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898E01-86C1-4B09-ACA0-46315880C1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19400" y="2917800"/>
            <a:ext cx="1009440" cy="982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7846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128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938840" y="2247840"/>
            <a:ext cx="262224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1 THEN return self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8" name=""/>
          <p:cNvCxnSpPr/>
          <p:nvPr/>
        </p:nvCxnSpPr>
        <p:spPr>
          <a:xfrm>
            <a:off x="178740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9" name=""/>
          <p:cNvCxnSpPr/>
          <p:nvPr/>
        </p:nvCxnSpPr>
        <p:spPr>
          <a:xfrm>
            <a:off x="333684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/>
          <p:nvPr/>
        </p:nvCxnSpPr>
        <p:spPr>
          <a:xfrm>
            <a:off x="4187520" y="4019040"/>
            <a:ext cx="3960" cy="2422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/>
          <p:nvPr/>
        </p:nvCxnSpPr>
        <p:spPr>
          <a:xfrm flipV="1">
            <a:off x="4187880" y="2629800"/>
            <a:ext cx="2160" cy="253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2" name=""/>
          <p:cNvSpPr/>
          <p:nvPr/>
        </p:nvSpPr>
        <p:spPr>
          <a:xfrm>
            <a:off x="4876200" y="4229280"/>
            <a:ext cx="347112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0 THEN send message B play: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809880" y="423540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13240" y="4280040"/>
            <a:ext cx="23767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trig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499760" y="2222640"/>
            <a:ext cx="24073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heads THEN retur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retur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76720" y="2870280"/>
            <a:ext cx="11412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1790640" y="35938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4406760" y="4140000"/>
            <a:ext cx="47016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4381560" y="2438280"/>
            <a:ext cx="55872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F497-26E8-44F9-BC3F-53B6CCDB336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A0F40B-E067-4F7C-9F69-2F5847A248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textbooks available because language is simply a superset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resource: Manual from Apple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website at SFI: Code, manuals,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community, mailinglists (and archiv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, steal and borrow other people’s co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F273-39F6-42DB-8635-5E89AB689F9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DB33E4-949A-4597-9FDD-6478A7434E6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find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warm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santafe.edu/projects/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ive-C m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above and look under Objective-C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cribing to mailing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mail to majordomo@santafe.edu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cribe swarm-support &lt;Your E-ma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47AB-B931-4ACF-B668-30703064CD4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1E9BCA-6769-497A-A293-599E0F4844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 up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05440" y="4373640"/>
            <a:ext cx="1235160" cy="1376280"/>
          </a:xfrm>
          <a:prstGeom prst="flowChartMultidocumen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492440" y="3965040"/>
            <a:ext cx="1490760" cy="163656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560"/>
              <a:gd name="textAreaBottom" fmla="*/ 1636920 h 163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6040" y="22543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18120" y="43084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0360" y="2909880"/>
            <a:ext cx="787680" cy="825480"/>
          </a:xfrm>
          <a:custGeom>
            <a:avLst/>
            <a:gdLst/>
            <a:ahLst/>
            <a:rect l="l" t="t" r="r" b="b"/>
            <a:pathLst>
              <a:path w="496" h="520">
                <a:moveTo>
                  <a:pt x="23" y="0"/>
                </a:moveTo>
                <a:cubicBezTo>
                  <a:pt x="252" y="76"/>
                  <a:pt x="482" y="152"/>
                  <a:pt x="489" y="233"/>
                </a:cubicBezTo>
                <a:cubicBezTo>
                  <a:pt x="496" y="314"/>
                  <a:pt x="134" y="520"/>
                  <a:pt x="67" y="489"/>
                </a:cubicBezTo>
                <a:cubicBezTo>
                  <a:pt x="0" y="458"/>
                  <a:pt x="82" y="121"/>
                  <a:pt x="89" y="4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29280" y="3121200"/>
            <a:ext cx="317520" cy="371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00920" y="2786040"/>
            <a:ext cx="828360" cy="264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224400" y="3703680"/>
            <a:ext cx="687240" cy="38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endCxn id="51" idx="1"/>
          </p:cNvCxnSpPr>
          <p:nvPr/>
        </p:nvCxnSpPr>
        <p:spPr>
          <a:xfrm>
            <a:off x="6435360" y="4498920"/>
            <a:ext cx="370440" cy="564480"/>
          </a:xfrm>
          <a:prstGeom prst="bentConnector3">
            <a:avLst>
              <a:gd name="adj1" fmla="val 4970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4005360" y="361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4840" y="54853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2640" y="380916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43400" y="48837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25280" y="58982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fici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00040" y="37184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48006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19810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88000" y="206856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73720" y="227340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11640" y="23572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0080" y="34131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82280" y="294084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4495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9528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6480" y="3429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49680" y="28465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360" y="1619280"/>
            <a:ext cx="3048120" cy="2636640"/>
          </a:xfrm>
          <a:prstGeom prst="cloudCallout">
            <a:avLst>
              <a:gd name="adj1" fmla="val 76564"/>
              <a:gd name="adj2" fmla="val 200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d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/>
          <p:nvPr/>
        </p:nvCxnSpPr>
        <p:spPr>
          <a:xfrm flipH="1" rot="16200000">
            <a:off x="3451680" y="41112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V="1">
            <a:off x="4925520" y="3338640"/>
            <a:ext cx="623160" cy="2955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3543-5F83-4E6B-ABE8-877021FB7A4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5643C0-9647-494B-8490-6EB9FB80B3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nched in 1994 by Chris Langton at Santa Fe Institute in New Mexico (Contributors: Chris Langton, Roger Burkhart, Nelson Minar, Manor Askenazi, Glen Ropella, Sven Thommesen, Marcus Daniels, Alex Lancaster, Vladimir Jojic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 shared simulation platform for A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ilitate the development of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d in beta in ‘95, 1.0 release in January ‘97, 1.1 with Win95/NT support April ‘98, 2.0 with Java April ‘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CB8C-22F3-4500-9F4A-C7780788E65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569D16-3308-4280-8E28-9AEF4376F0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is a collection of object oriented software libraries which provide support for simulation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build simulations by incorporating Swarm library objects in their own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ies are writte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-C : A superset of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l/Tk: Scripting language and GUI widgets (transparent to us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or Unix and Windows 95/98/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858A-411C-4469-994E-A853AAAE2D5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DE559D-AB24-478F-B6D3-7F6C2372CF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2867040" y="3952440"/>
            <a:ext cx="1490760" cy="163692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920"/>
              <a:gd name="textAreaBottom" fmla="*/ 1637280 h 163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30280" y="2241720"/>
            <a:ext cx="476280" cy="44100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42958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79600" y="360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79440" y="54727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96880" y="379620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18640" y="58852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60640" y="4788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22360" y="19684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62240" y="2055960"/>
            <a:ext cx="1482840" cy="63468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47960" y="2260440"/>
            <a:ext cx="148284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85880" y="2344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14680" y="3400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56520" y="292788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70280" y="44830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74840" y="49402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20720" y="34164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23920" y="2833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/>
          <p:nvPr/>
        </p:nvCxnSpPr>
        <p:spPr>
          <a:xfrm flipH="1" rot="16200000">
            <a:off x="1825920" y="40986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/>
          <p:nvPr/>
        </p:nvCxnSpPr>
        <p:spPr>
          <a:xfrm flipV="1">
            <a:off x="3300480" y="3324960"/>
            <a:ext cx="622800" cy="29628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4952880" y="1955880"/>
            <a:ext cx="3370320" cy="3962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70240" y="58600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ezbin" descr=""/>
          <p:cNvPicPr/>
          <p:nvPr/>
        </p:nvPicPr>
        <p:blipFill>
          <a:blip r:embed="rId1"/>
          <a:stretch/>
        </p:blipFill>
        <p:spPr>
          <a:xfrm>
            <a:off x="6908760" y="2220840"/>
            <a:ext cx="1231920" cy="836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959520" y="3200400"/>
            <a:ext cx="1136880" cy="102384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996240" y="3219480"/>
            <a:ext cx="1063440" cy="974520"/>
          </a:xfrm>
          <a:prstGeom prst="rect">
            <a:avLst/>
          </a:prstGeom>
          <a:ln w="0">
            <a:noFill/>
          </a:ln>
        </p:spPr>
      </p:pic>
      <p:cxnSp>
        <p:nvCxnSpPr>
          <p:cNvPr id="111" name=""/>
          <p:cNvCxnSpPr>
            <a:stCxn id="94" idx="3"/>
            <a:endCxn id="112" idx="2"/>
          </p:cNvCxnSpPr>
          <p:nvPr/>
        </p:nvCxnSpPr>
        <p:spPr>
          <a:xfrm flipV="1">
            <a:off x="4792680" y="3584160"/>
            <a:ext cx="443520" cy="365760"/>
          </a:xfrm>
          <a:prstGeom prst="bentConnector3">
            <a:avLst>
              <a:gd name="adj1" fmla="val 49796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5235480" y="2527200"/>
            <a:ext cx="1317600" cy="57168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35480" y="3251160"/>
            <a:ext cx="1254240" cy="5335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35480" y="4000680"/>
            <a:ext cx="1279800" cy="57132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35480" y="4749840"/>
            <a:ext cx="1279800" cy="57132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2"/>
            <a:endCxn id="94" idx="3"/>
          </p:cNvCxnSpPr>
          <p:nvPr/>
        </p:nvCxnSpPr>
        <p:spPr>
          <a:xfrm flipV="1" rot="10800000">
            <a:off x="4791960" y="2883240"/>
            <a:ext cx="443520" cy="1065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" name=""/>
          <p:cNvCxnSpPr>
            <a:stCxn id="114" idx="2"/>
            <a:endCxn id="94" idx="3"/>
          </p:cNvCxnSpPr>
          <p:nvPr/>
        </p:nvCxnSpPr>
        <p:spPr>
          <a:xfrm rot="10800000">
            <a:off x="4791960" y="3948840"/>
            <a:ext cx="443520" cy="408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8" name=""/>
          <p:cNvCxnSpPr>
            <a:stCxn id="115" idx="2"/>
            <a:endCxn id="94" idx="3"/>
          </p:cNvCxnSpPr>
          <p:nvPr/>
        </p:nvCxnSpPr>
        <p:spPr>
          <a:xfrm rot="10800000">
            <a:off x="4791960" y="3948840"/>
            <a:ext cx="443520" cy="11577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19" name="modelprobe" descr=""/>
          <p:cNvPicPr/>
          <p:nvPr/>
        </p:nvPicPr>
        <p:blipFill>
          <a:blip r:embed="rId3"/>
          <a:stretch/>
        </p:blipFill>
        <p:spPr>
          <a:xfrm>
            <a:off x="6883560" y="4419720"/>
            <a:ext cx="1282680" cy="10508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3" idx="4"/>
            <a:endCxn id="108" idx="1"/>
          </p:cNvCxnSpPr>
          <p:nvPr/>
        </p:nvCxnSpPr>
        <p:spPr>
          <a:xfrm flipV="1">
            <a:off x="6409800" y="2639520"/>
            <a:ext cx="499320" cy="244800"/>
          </a:xfrm>
          <a:prstGeom prst="bentConnector3">
            <a:avLst>
              <a:gd name="adj1" fmla="val 6428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" name=""/>
          <p:cNvCxnSpPr>
            <a:stCxn id="112" idx="5"/>
            <a:endCxn id="110" idx="1"/>
          </p:cNvCxnSpPr>
          <p:nvPr/>
        </p:nvCxnSpPr>
        <p:spPr>
          <a:xfrm>
            <a:off x="6489360" y="3451320"/>
            <a:ext cx="506880" cy="255960"/>
          </a:xfrm>
          <a:prstGeom prst="bentConnector3">
            <a:avLst>
              <a:gd name="adj1" fmla="val 4982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09" idx="1"/>
          </p:cNvCxnSpPr>
          <p:nvPr/>
        </p:nvCxnSpPr>
        <p:spPr>
          <a:xfrm flipV="1">
            <a:off x="6515280" y="3712680"/>
            <a:ext cx="444960" cy="502560"/>
          </a:xfrm>
          <a:prstGeom prst="bentConnector3">
            <a:avLst>
              <a:gd name="adj1" fmla="val 5246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3" name=""/>
          <p:cNvCxnSpPr>
            <a:stCxn id="119" idx="1"/>
            <a:endCxn id="115" idx="4"/>
          </p:cNvCxnSpPr>
          <p:nvPr/>
        </p:nvCxnSpPr>
        <p:spPr>
          <a:xfrm flipV="1" rot="10800000">
            <a:off x="6371640" y="4944600"/>
            <a:ext cx="511920" cy="162720"/>
          </a:xfrm>
          <a:prstGeom prst="bentConnector3">
            <a:avLst>
              <a:gd name="adj1" fmla="val 35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1AD5-8FAA-4ED4-95BB-1EDA8ECA794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EA61F9-255D-4343-A6CE-3D691BDB5CE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5480" y="2424240"/>
            <a:ext cx="2828880" cy="28159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6680" y="3147840"/>
            <a:ext cx="152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42040" y="412920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83040" y="3065400"/>
            <a:ext cx="904680" cy="317520"/>
          </a:xfrm>
          <a:custGeom>
            <a:avLst/>
            <a:gdLst/>
            <a:ahLst/>
            <a:rect l="l" t="t" r="r" b="b"/>
            <a:pathLst>
              <a:path w="570" h="200">
                <a:moveTo>
                  <a:pt x="0" y="199"/>
                </a:moveTo>
                <a:lnTo>
                  <a:pt x="98" y="98"/>
                </a:lnTo>
                <a:lnTo>
                  <a:pt x="180" y="44"/>
                </a:lnTo>
                <a:lnTo>
                  <a:pt x="253" y="8"/>
                </a:lnTo>
                <a:lnTo>
                  <a:pt x="288" y="0"/>
                </a:lnTo>
                <a:lnTo>
                  <a:pt x="307" y="8"/>
                </a:lnTo>
                <a:lnTo>
                  <a:pt x="325" y="26"/>
                </a:lnTo>
                <a:lnTo>
                  <a:pt x="343" y="53"/>
                </a:lnTo>
                <a:lnTo>
                  <a:pt x="352" y="90"/>
                </a:lnTo>
                <a:lnTo>
                  <a:pt x="352" y="117"/>
                </a:lnTo>
                <a:lnTo>
                  <a:pt x="361" y="144"/>
                </a:lnTo>
                <a:lnTo>
                  <a:pt x="406" y="134"/>
                </a:lnTo>
                <a:lnTo>
                  <a:pt x="443" y="126"/>
                </a:lnTo>
                <a:lnTo>
                  <a:pt x="478" y="107"/>
                </a:lnTo>
                <a:lnTo>
                  <a:pt x="514" y="98"/>
                </a:lnTo>
                <a:lnTo>
                  <a:pt x="533" y="98"/>
                </a:lnTo>
                <a:lnTo>
                  <a:pt x="569" y="90"/>
                </a:lnTo>
                <a:lnTo>
                  <a:pt x="567" y="7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4920" y="4021200"/>
            <a:ext cx="838440" cy="261720"/>
          </a:xfrm>
          <a:custGeom>
            <a:avLst/>
            <a:gdLst/>
            <a:ahLst/>
            <a:rect l="l" t="t" r="r" b="b"/>
            <a:pathLst>
              <a:path w="528" h="165">
                <a:moveTo>
                  <a:pt x="0" y="164"/>
                </a:moveTo>
                <a:lnTo>
                  <a:pt x="12" y="126"/>
                </a:lnTo>
                <a:lnTo>
                  <a:pt x="58" y="71"/>
                </a:lnTo>
                <a:lnTo>
                  <a:pt x="121" y="35"/>
                </a:lnTo>
                <a:lnTo>
                  <a:pt x="157" y="27"/>
                </a:lnTo>
                <a:lnTo>
                  <a:pt x="175" y="54"/>
                </a:lnTo>
                <a:lnTo>
                  <a:pt x="194" y="71"/>
                </a:lnTo>
                <a:lnTo>
                  <a:pt x="221" y="71"/>
                </a:lnTo>
                <a:lnTo>
                  <a:pt x="284" y="44"/>
                </a:lnTo>
                <a:lnTo>
                  <a:pt x="311" y="27"/>
                </a:lnTo>
                <a:lnTo>
                  <a:pt x="338" y="17"/>
                </a:lnTo>
                <a:lnTo>
                  <a:pt x="357" y="27"/>
                </a:lnTo>
                <a:lnTo>
                  <a:pt x="384" y="35"/>
                </a:lnTo>
                <a:lnTo>
                  <a:pt x="420" y="35"/>
                </a:lnTo>
                <a:lnTo>
                  <a:pt x="447" y="27"/>
                </a:lnTo>
                <a:lnTo>
                  <a:pt x="483" y="8"/>
                </a:lnTo>
                <a:lnTo>
                  <a:pt x="519" y="0"/>
                </a:lnTo>
                <a:lnTo>
                  <a:pt x="527" y="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74600" y="2789280"/>
            <a:ext cx="796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25720" y="3575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77800" y="5452920"/>
            <a:ext cx="137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86640" y="2205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95920" y="3348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05200" y="4491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58040" y="456876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3429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070320" y="3071880"/>
            <a:ext cx="990360" cy="30456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97760" y="3089160"/>
            <a:ext cx="990720" cy="381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138640" y="4232160"/>
            <a:ext cx="91440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05600" y="4268880"/>
            <a:ext cx="838080" cy="380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3836880"/>
            <a:ext cx="75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18160" y="499284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0" y="5489640"/>
            <a:ext cx="151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81960" y="2935440"/>
            <a:ext cx="512640" cy="223560"/>
          </a:xfrm>
          <a:custGeom>
            <a:avLst/>
            <a:gdLst/>
            <a:ahLst/>
            <a:rect l="l" t="t" r="r" b="b"/>
            <a:pathLst>
              <a:path w="323" h="141">
                <a:moveTo>
                  <a:pt x="0" y="140"/>
                </a:moveTo>
                <a:lnTo>
                  <a:pt x="32" y="65"/>
                </a:lnTo>
                <a:lnTo>
                  <a:pt x="64" y="22"/>
                </a:lnTo>
                <a:lnTo>
                  <a:pt x="86" y="11"/>
                </a:lnTo>
                <a:lnTo>
                  <a:pt x="118" y="22"/>
                </a:lnTo>
                <a:lnTo>
                  <a:pt x="161" y="33"/>
                </a:lnTo>
                <a:lnTo>
                  <a:pt x="204" y="65"/>
                </a:lnTo>
                <a:lnTo>
                  <a:pt x="214" y="97"/>
                </a:lnTo>
                <a:lnTo>
                  <a:pt x="247" y="65"/>
                </a:lnTo>
                <a:lnTo>
                  <a:pt x="268" y="33"/>
                </a:lnTo>
                <a:lnTo>
                  <a:pt x="289" y="11"/>
                </a:lnTo>
                <a:lnTo>
                  <a:pt x="322" y="0"/>
                </a:lnTo>
                <a:lnTo>
                  <a:pt x="322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5160" y="25462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56400" y="3768840"/>
            <a:ext cx="70632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56480" y="262728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2040" y="489888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049400" y="3879360"/>
            <a:ext cx="2549520" cy="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BD71-AD77-4366-A4C4-F5744A82778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AFA66F-0D0E-41B2-9686-177094F6E3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5T01:43:27Z</dcterms:created>
  <dc:creator>Benedikt Stefansson</dc:creator>
  <dc:description/>
  <dc:language>en-US</dc:language>
  <cp:lastModifiedBy>Office</cp:lastModifiedBy>
  <dcterms:modified xsi:type="dcterms:W3CDTF">1999-03-27T03:04:52Z</dcterms:modified>
  <cp:revision>42</cp:revision>
  <dc:subject/>
  <dc:title>Swarmfest 199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