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B2EB-6D3B-4F2E-BC56-288C61E3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85B3-C324-4F37-9D3F-01712582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62B4-3A74-4731-9900-A74C5EB3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81F3-C149-408C-B99A-115775A6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8155-4757-4052-9881-27CD0BBA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E6C9-58CD-469C-BCC1-7B2AB96D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D0B5-85D5-431E-9C06-2783ED8D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E9D3-8A97-4725-8040-309C65BC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C87B-A037-45F3-A4B8-64966FF7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3323-79B2-4E45-A100-28EDF8B2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2CA1-BDC4-4390-8F02-2DD9D6BA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29A-A287-4A33-9ABD-EB0F8F1F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306A-3F31-4125-906C-2068E17403D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D7EB-F3A8-4116-9728-86BC6B08F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B2B6-FC11-486A-A02D-9B6DDEAF17D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03327-CAF0-410A-9900-AF1CFB2B50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91AF-EC65-4763-BA28-168263D0081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0BCB0-5B54-459C-A634-FA114CB1AE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D480-3DDD-419B-9630-0170EDFA48D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3827F-E1AB-4BB6-BF16-4538803E88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of scheduling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187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4"/>
            <a:endCxn id="185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85" idx="4"/>
            <a:endCxn id="175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83" idx="1"/>
            <a:endCxn id="176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84" idx="3"/>
            <a:endCxn id="182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96" idx="1"/>
            <a:endCxn id="192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7" idx="3"/>
            <a:endCxn id="198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F718-349C-4006-8FAC-B8235B150F9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AC5B6-CA42-4784-B32A-42B901454A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7" idx="2"/>
            <a:endCxn id="252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24B9-E306-4197-B173-AE59C931770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761EF-A207-4876-AD94-D912B48A16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8" idx="1"/>
            <a:endCxn id="276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6" idx="7"/>
            <a:endCxn id="277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" name=""/>
          <p:cNvCxnSpPr>
            <a:stCxn id="278" idx="6"/>
            <a:endCxn id="277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sort of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3256-D22A-41F6-9A60-3D4362B9AD5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CC3E0-05F5-4950-9F8C-50A7A169BA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s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8B30-B22E-43E2-A11B-1962F8C85E9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3CBA9-A54E-4242-A213-0321D2D6A5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23600" y="2212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k c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22880" y="2651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n b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33320" y="21938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 wh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300" idx="2"/>
            <a:endCxn id="304" idx="7"/>
          </p:cNvCxnSpPr>
          <p:nvPr/>
        </p:nvCxnSpPr>
        <p:spPr>
          <a:xfrm rot="5400000">
            <a:off x="5163480" y="3412800"/>
            <a:ext cx="1119960" cy="51048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300" idx="2"/>
            <a:endCxn id="305" idx="0"/>
          </p:cNvCxnSpPr>
          <p:nvPr/>
        </p:nvCxnSpPr>
        <p:spPr>
          <a:xfrm flipH="1" rot="16200000">
            <a:off x="5529240" y="3557160"/>
            <a:ext cx="1083240" cy="185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"/>
          <p:cNvCxnSpPr>
            <a:stCxn id="300" idx="2"/>
            <a:endCxn id="306" idx="0"/>
          </p:cNvCxnSpPr>
          <p:nvPr/>
        </p:nvCxnSpPr>
        <p:spPr>
          <a:xfrm flipH="1" rot="16200000">
            <a:off x="5899680" y="3186000"/>
            <a:ext cx="1083240" cy="927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0" idx="2"/>
            <a:endCxn id="313" idx="0"/>
          </p:cNvCxnSpPr>
          <p:nvPr/>
        </p:nvCxnSpPr>
        <p:spPr>
          <a:xfrm flipH="1" rot="16200000">
            <a:off x="6309360" y="2776320"/>
            <a:ext cx="1083240" cy="1747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" name=""/>
          <p:cNvCxnSpPr>
            <a:stCxn id="302" idx="2"/>
            <a:endCxn id="308" idx="0"/>
          </p:cNvCxnSpPr>
          <p:nvPr/>
        </p:nvCxnSpPr>
        <p:spPr>
          <a:xfrm rot="5400000">
            <a:off x="7480800" y="2932920"/>
            <a:ext cx="682920" cy="119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3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62400" y="2647800"/>
            <a:ext cx="171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CC55-54D9-404A-B88A-770EA06A2AD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AEA50-B18B-4A13-8F39-FE9DC8FA8A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4" idx="2"/>
            <a:endCxn id="329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7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EB59-7883-4236-B47F-54ADAF4EF18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DFF9A-029F-4463-A937-86BED48C98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ropped using a notion of 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extension of same principle can also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20E2-A3CB-46F3-8C9D-BFAFE4F8DD7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934F5-BDA6-4DB7-9A41-B06A264507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391D-5184-453F-920A-D68433D3192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3C081-32BB-4E8A-809C-7198012EC9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9B04-C315-42C8-A9B9-BFBB1FD6CC3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73A72E-C387-4773-A19D-1DD5B509A2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probe map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0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C97-5136-4E5B-A989-25478EAF097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92160-5498-4341-8705-D19579766F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2" idx="1"/>
            <a:endCxn id="385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7" name=""/>
          <p:cNvCxnSpPr>
            <a:stCxn id="393" idx="3"/>
            <a:endCxn id="384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>
            <a:stCxn id="394" idx="1"/>
            <a:endCxn id="382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9" idx="2"/>
            <a:endCxn id="383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4097-FA9A-4BEF-A5AA-4E6AB2F2B2C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8549A-64C1-4A17-8324-D5E45093B4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04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8730-5438-4F89-9A5F-73AEF744449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33D27-C986-4100-BE2C-635EE540C2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3"/>
            <a:endCxn id="413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8" name=""/>
          <p:cNvCxnSpPr>
            <a:stCxn id="424" idx="1"/>
            <a:endCxn id="410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25" idx="2"/>
            <a:endCxn id="416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0" name=""/>
          <p:cNvCxnSpPr>
            <a:stCxn id="426" idx="2"/>
            <a:endCxn id="414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1" name=""/>
          <p:cNvCxnSpPr>
            <a:stCxn id="422" idx="0"/>
            <a:endCxn id="411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2" name=""/>
          <p:cNvCxnSpPr>
            <a:stCxn id="421" idx="0"/>
            <a:endCxn id="409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33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3" idx="0"/>
            <a:endCxn id="420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AEEC-2F8D-4673-AA16-80993906326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0C56F-A520-41ED-A75A-4E62128382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Rhapsody 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reator and destructor functions as in C++, nor overloading of functions or multiple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5C06-DD02-4844-BB86-E87C4FEE396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07E31-D49D-4EC4-B2E5-95AF87E755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3" idx="4"/>
            <a:endCxn id="445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3" idx="4"/>
            <a:endCxn id="444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8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endCxn id="439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2" name=""/>
          <p:cNvCxnSpPr>
            <a:endCxn id="438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43" idx="0"/>
            <a:endCxn id="440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"/>
          <p:cNvCxnSpPr>
            <a:stCxn id="445" idx="2"/>
            <a:endCxn id="441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8" idx="1"/>
            <a:endCxn id="449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7" idx="1"/>
            <a:endCxn id="449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9366-B3FC-4050-A6CE-FE68CFF07D5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DE7B5-6D9E-4BF2-852D-60AA6C8343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@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ations of instance variables 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essage: (type) 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2720" y="1981080"/>
            <a:ext cx="404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B78B-8668-491D-B4A9-E716E723F57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C99B9-5E91-4F08-82F9-4E36F3319B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 (type) 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E6C0-A290-4146-BEC9-6887395E966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A838B-D6B7-4723-864F-E474015E65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615A-4FD1-457C-9312-EECFE6F591D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18D31-B1E0-4048-98AF-B10D86573C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60A5-DC1F-49EF-AC75-A4EDDF8A9F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968FF-0DCE-4AD2-BCF7-49C74D22F8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var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vartype) ar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B0F-DE8D-4D9B-B284-0BCED118353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E0409-ECF0-4F76-8077-ED7016FABA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var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vartype) ar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 etc. 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returning no value must retur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4C73-9226-4A8A-8920-FA12FF7BB3C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E2742-E3D5-4F72-9EB0-73BFEF1F41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 name: (type) arg1 argName2: (type) arg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arg1,(type) arg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5D4E-05E4-40B9-81A3-56AE3049C067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6D963-4B65-4DA6-95E0-2EE1AE35B2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 of C vs.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01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rand_move(int i) {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mp_lo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mp_loc=get_rand_loc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while(val[tmp_loc]!=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[location[i]]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[tmp_loc]=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8560" y="1981080"/>
            <a:ext cx="3905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rand_move: p {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lo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c=[self getRandLoc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while([world at: loc]!=ni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 moveTo: loc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B3AE-CADE-4011-9B1C-AC722B730AC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2A2A6-5D30-4A2D-AADE-A4D8C9ABD4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F29E-7CA7-48AE-BA30-C20C8D81B0B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4F2C8-2C68-4B74-B2A9-85BB229837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D951-6AD8-4D80-9D53-88A2AD6CCB8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81FD4-60B4-4386-B860-0A48B48574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ed in 1994 by Chris Langton at Santa Fe Institute in New Mexico (Contributors: Chris Langton, Roger Burkhart, Nelson Minar, Manor Askenazi, Glen Ropella, Sven Thommesen, Marcus Daniels, Alex Lancaster, Irene L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create a common simulation platform for A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sed in beta in 1995, 1.0 release in January 1997, 1.1 with Win95/NT support : April 199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: Windows 95/NT version, (Rhapsody?), other GUI implementations, client-server approach, paralel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2601-7160-4FE0-8D9E-170A08A315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9935B-B892-444A-AC00-E1FCFB5173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/Tcl: Scripting language and GUI widgets. GUI is now independent of this implementation and may be substituted by other widget sets in near fu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X-Windows/Unix and Windows 95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44DC-69E2-4652-AFA9-73485702F2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91102-469C-4A93-940C-867AE98DCC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endCxn id="53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801F-6FAF-4121-A782-9BD84F8B912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392CE-812F-495B-B2AA-5CC7CE7EC0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5160" y="2550960"/>
            <a:ext cx="2689200" cy="268920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93440" y="3198960"/>
            <a:ext cx="135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40520" y="42688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11600" y="36892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9800" y="549108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163520" y="3879360"/>
            <a:ext cx="243540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8005-3332-49E8-B432-7582046BD48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A7F91-535E-4E82-9737-2FBC16A4BC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FFAA-0B60-419E-A016-24C847E5CF5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743BC-0788-4672-AD35-FB421D55AE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’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17" idx="4"/>
            <a:endCxn id="126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17" idx="4"/>
            <a:endCxn id="125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5280" y="2521080"/>
            <a:ext cx="83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2460-F968-4A5F-9DE2-AD290218258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8961D-9455-41C5-9F24-3B0EFD79EA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Benedikt Stefansson</cp:lastModifiedBy>
  <dcterms:modified xsi:type="dcterms:W3CDTF">1998-03-19T09:05:11Z</dcterms:modified>
  <cp:revision>24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